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88476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FE9A-5855-4B92-84C7-40F0D45A838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9B90-075E-4504-BE40-A60E016B67A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6D03-4AD1-44DA-9167-03B3EACAA0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7640" y="117360"/>
            <a:ext cx="88930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7640" y="117360"/>
            <a:ext cx="88930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7640" y="117360"/>
            <a:ext cx="88930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" name="Rettangolo arrotondato 10"/>
          <p:cNvSpPr/>
          <p:nvPr/>
        </p:nvSpPr>
        <p:spPr>
          <a:xfrm>
            <a:off x="65160" y="93600"/>
            <a:ext cx="9013680" cy="66931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" name="Rettangolo 11"/>
          <p:cNvSpPr/>
          <p:nvPr/>
        </p:nvSpPr>
        <p:spPr>
          <a:xfrm>
            <a:off x="88920" y="1484280"/>
            <a:ext cx="9020160" cy="152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Rettangolo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Rettangolo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2"/>
          <p:cNvSpPr/>
          <p:nvPr/>
        </p:nvSpPr>
        <p:spPr>
          <a:xfrm>
            <a:off x="762120" y="6705720"/>
            <a:ext cx="8076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CasellaDiTesto 4"/>
          <p:cNvSpPr/>
          <p:nvPr/>
        </p:nvSpPr>
        <p:spPr>
          <a:xfrm>
            <a:off x="786600" y="6357960"/>
            <a:ext cx="90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7375e"/>
                </a:solidFill>
                <a:latin typeface="Arial"/>
              </a:rPr>
              <a:t>USR Lombardia</a:t>
            </a:r>
            <a:endParaRPr b="1" lang="en-US" sz="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8820000" y="6740640"/>
            <a:ext cx="289080" cy="11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6453360"/>
            <a:ext cx="3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25560" y="765000"/>
            <a:ext cx="71280" cy="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4" name="Rectangle 29"/>
          <p:cNvSpPr/>
          <p:nvPr/>
        </p:nvSpPr>
        <p:spPr>
          <a:xfrm>
            <a:off x="380880" y="6705720"/>
            <a:ext cx="4572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9360" y="642636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Oval 33"/>
          <p:cNvSpPr/>
          <p:nvPr/>
        </p:nvSpPr>
        <p:spPr>
          <a:xfrm>
            <a:off x="0" y="6400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7" name="Oval 34"/>
          <p:cNvSpPr/>
          <p:nvPr/>
        </p:nvSpPr>
        <p:spPr>
          <a:xfrm>
            <a:off x="0" y="6400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grpSp>
        <p:nvGrpSpPr>
          <p:cNvPr id="88" name="Group 27"/>
          <p:cNvGrpSpPr/>
          <p:nvPr/>
        </p:nvGrpSpPr>
        <p:grpSpPr>
          <a:xfrm>
            <a:off x="0" y="6093000"/>
            <a:ext cx="8873640" cy="652320"/>
            <a:chOff x="0" y="6093000"/>
            <a:chExt cx="8873640" cy="652320"/>
          </a:xfrm>
        </p:grpSpPr>
        <p:grpSp>
          <p:nvGrpSpPr>
            <p:cNvPr id="89" name="Group 25"/>
            <p:cNvGrpSpPr/>
            <p:nvPr/>
          </p:nvGrpSpPr>
          <p:grpSpPr>
            <a:xfrm>
              <a:off x="0" y="6093000"/>
              <a:ext cx="8873640" cy="652320"/>
              <a:chOff x="0" y="6093000"/>
              <a:chExt cx="8873640" cy="652320"/>
            </a:xfrm>
          </p:grpSpPr>
          <p:grpSp>
            <p:nvGrpSpPr>
              <p:cNvPr id="90" name="Group 19"/>
              <p:cNvGrpSpPr/>
              <p:nvPr/>
            </p:nvGrpSpPr>
            <p:grpSpPr>
              <a:xfrm>
                <a:off x="0" y="6093000"/>
                <a:ext cx="6589440" cy="652320"/>
                <a:chOff x="0" y="6093000"/>
                <a:chExt cx="6589440" cy="652320"/>
              </a:xfrm>
            </p:grpSpPr>
            <p:pic>
              <p:nvPicPr>
                <p:cNvPr id="91" name="Picture 9" descr="riga-pallino5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093000"/>
                  <a:ext cx="655308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Rectangle 18"/>
                <p:cNvSpPr/>
                <p:nvPr/>
              </p:nvSpPr>
              <p:spPr>
                <a:xfrm>
                  <a:off x="874440" y="6593040"/>
                  <a:ext cx="5715000" cy="152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333399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93" name="Oval 12"/>
              <p:cNvSpPr/>
              <p:nvPr/>
            </p:nvSpPr>
            <p:spPr>
              <a:xfrm>
                <a:off x="8800920" y="6629400"/>
                <a:ext cx="72720" cy="73080"/>
              </a:xfrm>
              <a:prstGeom prst="ellipse">
                <a:avLst/>
              </a:prstGeom>
              <a:solidFill>
                <a:srgbClr val="28b5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333399"/>
                  </a:solidFill>
                  <a:latin typeface="Trebuchet MS"/>
                </a:endParaRPr>
              </a:p>
            </p:txBody>
          </p:sp>
        </p:grpSp>
        <p:sp>
          <p:nvSpPr>
            <p:cNvPr id="94" name="Line 24"/>
            <p:cNvSpPr/>
            <p:nvPr/>
          </p:nvSpPr>
          <p:spPr>
            <a:xfrm flipH="1">
              <a:off x="876240" y="6666120"/>
              <a:ext cx="7940160" cy="0"/>
            </a:xfrm>
            <a:prstGeom prst="line">
              <a:avLst/>
            </a:prstGeom>
            <a:ln w="9360">
              <a:solidFill>
                <a:srgbClr val="28b5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99"/>
                </a:solidFill>
                <a:latin typeface="Trebuchet MS"/>
              </a:endParaRPr>
            </a:p>
          </p:txBody>
        </p:sp>
      </p:grpSp>
      <p:sp>
        <p:nvSpPr>
          <p:cNvPr id="95" name="Text Box 36"/>
          <p:cNvSpPr/>
          <p:nvPr/>
        </p:nvSpPr>
        <p:spPr>
          <a:xfrm>
            <a:off x="4427640" y="6237360"/>
            <a:ext cx="684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61B5-AF41-4F89-996E-DE7D6255B270}" type="slidenum">
              <a:rPr b="0" lang="it-IT" sz="12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D:/Impostazioni%20locali/Temporary%20Internet%20Files/OLK151/Riordino_organizzazione%20scolastica.doc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asellaDiTesto 3"/>
          <p:cNvSpPr/>
          <p:nvPr/>
        </p:nvSpPr>
        <p:spPr>
          <a:xfrm>
            <a:off x="2440080" y="3110040"/>
            <a:ext cx="1839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42" name="Picture 9" descr="USRLomb_miur300b"/>
          <p:cNvPicPr/>
          <p:nvPr/>
        </p:nvPicPr>
        <p:blipFill>
          <a:blip r:embed="rId1"/>
          <a:stretch/>
        </p:blipFill>
        <p:spPr>
          <a:xfrm>
            <a:off x="142920" y="5848200"/>
            <a:ext cx="1643040" cy="795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3"/>
          <p:cNvSpPr/>
          <p:nvPr/>
        </p:nvSpPr>
        <p:spPr>
          <a:xfrm>
            <a:off x="324000" y="-37620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108000" y="1955880"/>
            <a:ext cx="8785080" cy="26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fffff"/>
                </a:solidFill>
                <a:latin typeface="Trebuchet MS"/>
              </a:rPr>
              <a:t>Delivery unit</a:t>
            </a:r>
            <a:r>
              <a:rPr b="0" lang="it-IT" sz="3600" spc="-1" strike="noStrike">
                <a:solidFill>
                  <a:srgbClr val="ffffff"/>
                </a:solidFill>
                <a:latin typeface="Trebuchet MS"/>
              </a:rPr>
              <a:t> Istruzione Tecnica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rebuchet MS"/>
              </a:rPr>
              <a:t>Sorrento – 13, 14 15 aprile </a:t>
            </a:r>
            <a:endParaRPr b="1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f5a87"/>
                </a:solidFill>
                <a:latin typeface="Trebuchet MS"/>
              </a:rPr>
              <a:t>IL LABORATORIO DI SVILUPPO E SOSTEGNO </a:t>
            </a:r>
            <a:br>
              <a:rPr sz="2400"/>
            </a:br>
            <a:r>
              <a:rPr b="1" lang="it-IT" sz="2400" spc="-1" strike="noStrike">
                <a:solidFill>
                  <a:srgbClr val="3f5a87"/>
                </a:solidFill>
                <a:latin typeface="Trebuchet MS"/>
              </a:rPr>
              <a:t>ALL’INNOVAZIONE IN LOMBARDIA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ttangolo 1"/>
          <p:cNvSpPr/>
          <p:nvPr/>
        </p:nvSpPr>
        <p:spPr>
          <a:xfrm>
            <a:off x="3004200" y="40464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Composizione dei CT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539640" y="844200"/>
            <a:ext cx="806472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Per gli esterni: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 portatori (o “testimoni”) della domanda di competenza, in particolare le aziende,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collegate agli indirizzi dell’Istituto, più attive sul territorio (senza dimenticare, ove 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rappresentino uno sbocco professionale significativo le aziende della pubblica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amministrazione); sono in genere soprattutto i responsabili della produzione (dei beni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o dei servizi) che portare un contributo rilevante;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gli esperti (universitari e non) delle aree disciplinari coerenti con gli indirizzi o delle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facoltà cui si orienta il maggior numero di diplomati dell’istituto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Per gli interni: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 docenti delle discipline di indirizzo o di base con maggiore autorevolezza presso i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colleghi (potrebbe essere opportuno, per garantire al CTS una posizione – e 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un’immagine –  di effettiva autonomia rispetto alle responsabilità gestionali della 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scuola, evitare di scegliere docenti già incaricati di funzioni importanti a livello di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stituto)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360360" y="1320120"/>
            <a:ext cx="83152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noltre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l CTS può aprire i suoi lavori ad altri docenti o esperti esterni in relazione ai diversi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argomenti trattati;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tra gli esperti esterni possono essere ricompresi genitori degli allievi (che tuttavia non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partecipano al CTS </a:t>
            </a:r>
            <a:r>
              <a:rPr b="0" i="1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n quanto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genitori)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 rapporti interistituzionali (con gli enti locali, con le associazioni datoriali o culturali, con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le università, con le territoriali sindacali...) sono più opportunamente ricondotti alla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responsabilità del DS (che può avvalersi dei collaboratori dello staff) che non gestiti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mediante la partecipazione al CTS.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8" name="Rettangolo 2"/>
          <p:cNvSpPr/>
          <p:nvPr/>
        </p:nvSpPr>
        <p:spPr>
          <a:xfrm>
            <a:off x="2860560" y="40464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Composizione dei CT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87280" y="1097280"/>
            <a:ext cx="84614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Il CTS è organismo tecnico-scientifico (di indirizzo), non organo di gestione o di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rappresentanza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Ogni componente vi partecipa in forza della sua personale competenza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Il CTS può rappresentare un interlocutore “alto” degli organi interni di programmazione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didattica e un “</a:t>
            </a:r>
            <a:r>
              <a:rPr b="0" i="1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discussant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” esperto delle esperienze didattiche della scuola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La possibilità della scuola di essere un interlocutore forte per la programmazione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territoriale è meglio sostenuta mediante un potenziamento delle partnership di rete.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0" name="Rettangolo 3"/>
          <p:cNvSpPr/>
          <p:nvPr/>
        </p:nvSpPr>
        <p:spPr>
          <a:xfrm>
            <a:off x="3412080" y="40464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 CTS in sintesi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ttangolo 1"/>
          <p:cNvSpPr/>
          <p:nvPr/>
        </p:nvSpPr>
        <p:spPr>
          <a:xfrm>
            <a:off x="395280" y="1341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La funzione dei dipartimenti è connessa alla “progettazione formativa”.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2" name="Rettangolo 2"/>
          <p:cNvSpPr/>
          <p:nvPr/>
        </p:nvSpPr>
        <p:spPr>
          <a:xfrm>
            <a:off x="3411720" y="4046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468360" y="2373480"/>
            <a:ext cx="8136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  rappresentano un’articolazione funzionale: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per indirizzo, nel triennio,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n quanto gli obiettivi di apprendimento sono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dettati dal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profilo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culturale e professionale;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nterdisciplinare per il biennio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, in quanto gli obiettivi sono definiti dagli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Assi culturali del Regolamento dell’obbligo (ed eventualmente sono gli assi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ulturali che possono guidarne l’ulteriore segmentazione).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95280" y="1800000"/>
            <a:ext cx="8209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 hanno nella scuola due livelli di interlocuzione essenziale: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on il CTS,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n quanto propone indirizzi per la progettazione didattica: le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proposte del CTS sono analizzate e discusse dai dipartimenti, che hanno il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ompito di vagliarle in ragione degli obiettivi e delle priorità della scuola e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tradurle in progetti di fattibilità, in ragione delle risorse disponibili e delle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ondizioni operative;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on i Consigli di Classe,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he applicano nella loro programmazione la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progettazione didattica del dipartimento.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5" name="Rettangolo 2"/>
          <p:cNvSpPr/>
          <p:nvPr/>
        </p:nvSpPr>
        <p:spPr>
          <a:xfrm>
            <a:off x="3411720" y="4046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 flipV="1" rot="10800000">
            <a:off x="394920" y="1413720"/>
            <a:ext cx="7993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 costituiscono articolazione funzionale del Collegio, con la  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funzione di governare la progettazione didattica per competenze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questa funzione ne guida la composizione, che non può perciò essere per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aree disciplinar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quale articolazione funzionale del Collegio, il dipartimento ha ruolo per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vagliare e recepire gli indirizzi espressi dal CTS e per assicurare la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coerenza della programmazione del CdC con la progettazione d’Istituto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7" name="Rettangolo 3"/>
          <p:cNvSpPr/>
          <p:nvPr/>
        </p:nvSpPr>
        <p:spPr>
          <a:xfrm>
            <a:off x="2784960" y="404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 in sintesi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CasellaDiTesto 1"/>
          <p:cNvSpPr/>
          <p:nvPr/>
        </p:nvSpPr>
        <p:spPr>
          <a:xfrm>
            <a:off x="1763640" y="256536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Arial"/>
                <a:ea typeface="Arial"/>
              </a:rPr>
              <a:t>STATO DI ATTUAZIONE DEL RIORDINO DELL’ISTRUZIONE TECNICA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46" name="Immagine 2" descr="logo_direzione.gif"/>
          <p:cNvPicPr/>
          <p:nvPr/>
        </p:nvPicPr>
        <p:blipFill>
          <a:blip r:embed="rId1"/>
          <a:stretch/>
        </p:blipFill>
        <p:spPr>
          <a:xfrm>
            <a:off x="684360" y="549360"/>
            <a:ext cx="2705040" cy="1295280"/>
          </a:xfrm>
          <a:prstGeom prst="rect">
            <a:avLst/>
          </a:prstGeom>
          <a:ln w="0">
            <a:noFill/>
          </a:ln>
        </p:spPr>
      </p:pic>
      <p:sp>
        <p:nvSpPr>
          <p:cNvPr id="147" name="CasellaDiTesto 4"/>
          <p:cNvSpPr/>
          <p:nvPr/>
        </p:nvSpPr>
        <p:spPr>
          <a:xfrm>
            <a:off x="684360" y="5661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INDAGINE SULLE SCUOLE DELLA DELIVERY UNIT – MARZO 2011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asellaDiTesto 1"/>
          <p:cNvSpPr/>
          <p:nvPr/>
        </p:nvSpPr>
        <p:spPr>
          <a:xfrm>
            <a:off x="826920" y="40464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Verdana"/>
              </a:rPr>
              <a:t>Gli obiettivi del riordino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Ridurre la frammentazione dell’offerta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onsolidare e normalizzare l’innovazione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Valorizzare le prassi più efficac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9" name="CasellaDiTesto 2"/>
          <p:cNvSpPr/>
          <p:nvPr/>
        </p:nvSpPr>
        <p:spPr>
          <a:xfrm>
            <a:off x="468360" y="2205000"/>
            <a:ext cx="82072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il</a:t>
            </a: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 riordino non è una trasformazione (non è una </a:t>
            </a:r>
            <a:r>
              <a:rPr b="0" i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riforma</a:t>
            </a: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 della scuola): riprende e sistematizza alcune linee evolutive già present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3068640"/>
          <a:ext cx="8137440" cy="3108240"/>
        </p:xfrm>
        <a:graphic>
          <a:graphicData uri="http://schemas.openxmlformats.org/drawingml/2006/table">
            <a:tbl>
              <a:tblPr/>
              <a:tblGrid>
                <a:gridCol w="2808360"/>
                <a:gridCol w="53290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iordino degli ordinamenti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Legge 53/03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Istituzione dei CTS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iconoscimento del ruolo degli stakeholder: Progetto Qualità, 1991 – Regolamento dell’autonomia, 1997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Istituzione dei dipartimenti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Assi culturali: Regolamento dell’obbligo, 2007; Coordinamenti/aree disciplinari; interdisciplinarit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Didattica delle competenze, “scuola-laboratorio”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PISA, 1997; Polo Qualità di Milano, 2000; didattica attiva, focus sull’apprendimento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CasellaDiTesto 1"/>
          <p:cNvSpPr/>
          <p:nvPr/>
        </p:nvSpPr>
        <p:spPr>
          <a:xfrm>
            <a:off x="1692360" y="404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Il punto central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2" name="CasellaDiTesto 2"/>
          <p:cNvSpPr/>
          <p:nvPr/>
        </p:nvSpPr>
        <p:spPr>
          <a:xfrm>
            <a:off x="755640" y="112536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La didattica delle competenze: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Centralità dell’apprendimento: cosa fa lo studente?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Laboratori, didattica laboratoriale, alternanza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Interdisciplinarità: dipartiment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Obiettivi dell’apprendimento: cittadinanza, professionalità; coinvolgimento degli stakeholder, CTS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3" name="CasellaDiTesto 3"/>
          <p:cNvSpPr/>
          <p:nvPr/>
        </p:nvSpPr>
        <p:spPr>
          <a:xfrm>
            <a:off x="468360" y="3789360"/>
            <a:ext cx="82072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Il cambiamento del punto di vista: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Il prodotto della scuola: lo sviluppo delle competenze degli student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Il processo di produzione: l’apprendimento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Le risorse di produzione: le competenze dei docenti (insegnamento); i setting formativi (aula, laboratorio, azienda); gli strumenti (tecnologie formative)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asellaDiTesto 1"/>
          <p:cNvSpPr/>
          <p:nvPr/>
        </p:nvSpPr>
        <p:spPr>
          <a:xfrm>
            <a:off x="1258920" y="4762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Le scuole partecipanti alla rilevazion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5280" y="1268280"/>
          <a:ext cx="8064360" cy="466416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isposte elaborate per l’analisi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isposte pervenute successivamente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Majorana (Seriate – BG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Capirola (Leno –BS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Tosi (Busto Arsizio – VA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Città di Luino (Luino – VA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Badoni (LC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Piamarta (BS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Cannizzaro (Rho – MI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Fermi (MN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Volta (LO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IS Leopardi (MI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Cardano (PV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ITC Verri (MI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omani (Casalmaggiore – CR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Majorana (BG) e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Hensemberger (Monza – MB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Paleocapa (BG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Dell’Acqua (Legnano-MI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476280"/>
          <a:ext cx="8785080" cy="5941800"/>
        </p:xfrm>
        <a:graphic>
          <a:graphicData uri="http://schemas.openxmlformats.org/drawingml/2006/table">
            <a:tbl>
              <a:tblPr/>
              <a:tblGrid>
                <a:gridCol w="154800"/>
                <a:gridCol w="4499280"/>
                <a:gridCol w="4131000"/>
              </a:tblGrid>
              <a:tr h="304560">
                <a:tc>
                  <a:txBody>
                    <a:bodyPr lIns="59400" rIns="59400" tIns="29880" bIns="298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Punti fermi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Questioni aperte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720"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1 </a:t>
                      </a:r>
                      <a:endParaRPr b="1" lang="en-US" sz="6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Descrittori e indicatori degli esiti dell’apprendimento sono definiti a livello d’istituto, dai dipartimenti o dalle aree disciplinari; in qualche caso  sono introdotte prove comuni, è istituita un’apposita commissione o una funzione strumentale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n vari casi i dipartimenti sono una riedizione delle aree disciplinari; in altri si aggiungono ad esse senza che sia ben definito il rapporto tra loro e il rapporto con Collegio e CdC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2480"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2 </a:t>
                      </a:r>
                      <a:endParaRPr b="1" lang="en-US" sz="6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 dipartimenti sono stati istituiti o in corso d’istituzione; rappresentano una funzione di raccordo tra il CTS (quando esso esercita un ruolo propositivo) e la programmazione d’Istituto; in qualche caso sono configurati per unificare la programmazione tra discipline di base e di indirizzo, in altri per assi culturali; possono rappresentare un’articolazione per indirizzo del CD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n vari casi i dipartimenti sono una riedizione delle aree disciplinari; in altri si aggiungono ad esse senza che sia ben definito il rapporto tra loro e il rapporto con Collegio e CdC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3 </a:t>
                      </a:r>
                      <a:endParaRPr b="1" lang="en-US" sz="6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e scelte operate dai diversi organismi di programmazione sono regolarmente documentate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a documentazione è affidata alla redazione di verbali  (spesso è organizzata e conservata dal sistema qualità) ma non è funzionale a garantire la ricaduta delle decisioni prese (resta “agli atti”)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4 </a:t>
                      </a:r>
                      <a:endParaRPr b="1" lang="en-US" sz="6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’Ufficio Tecnico è presente nel 70% dei casi; rappresenta una funzione di supporto ai Responsabili di Laboratorio, anche per la pianificazione degli acquisti quando il laboratorio è considerato come centro di costo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’UT continua ad esercitare le funzioni precedenti, non è stato potenziato o riqualificato; non è stato istituito dove non presente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CasellaDiTesto 6"/>
          <p:cNvSpPr/>
          <p:nvPr/>
        </p:nvSpPr>
        <p:spPr>
          <a:xfrm>
            <a:off x="971640" y="44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L’organizzazion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6"/>
          <p:cNvSpPr/>
          <p:nvPr/>
        </p:nvSpPr>
        <p:spPr>
          <a:xfrm>
            <a:off x="971640" y="26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L’organizzazion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052640"/>
          <a:ext cx="8064360" cy="4836960"/>
        </p:xfrm>
        <a:graphic>
          <a:graphicData uri="http://schemas.openxmlformats.org/drawingml/2006/table">
            <a:tbl>
              <a:tblPr/>
              <a:tblGrid>
                <a:gridCol w="287280"/>
                <a:gridCol w="3508560"/>
                <a:gridCol w="4268520"/>
              </a:tblGrid>
              <a:tr h="3031920"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5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 CTS sono stati istituiti nella maggior parte dei casi; in qualche caso sono attivi (e propositivi) già da diverso tempo; in qualche caso partecipano alla programmazione; possono svolgere un ruolo trainante per la partecipazione a progetti; la composizione è diversificata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Nel 60% dei casi il CTS non è operativo; la composizione tradisce incertezza sulle sue funzioni: organismo di rappresentanza sociale o comitato d’indirizzo? In alcuni casi infatti elabora proposte (in ordine al curriculum, all’aggiornamento docenti...), in altri valida (formalmente) la programmazione del Collegio; il raccordo tra funzioni d’indirizzo del CTS e programmazione d’istituto non è regolato; è difficile ottenere la partecipazione dei principali stakeholder; la non-obbligatorietà della sua istituzione produce una sottovalutazione della sua importanza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5040"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6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a funzione direzionale è generalmente articolata: collaboratori e funzioni strumentali incaricati rispetto alle aree-chiave del riordino (competenze, orientamento, rapporto con le aziende, progetti); le deleghe sono formalizzate (in genere dal DS, in alcuni casi dal Collegio)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Non è ancora regolato il raccordo tra funzione direzionale, organi collegiali (ex DD 1974) e nuovi organismi; gli spazi di autonomia connessi alla delega di responsabilità non sono sempre ben definiti; c’è la tendenza ad affidare ad organismi collegiali ogni questione, moltiplicando le strutture (“barocchismo”)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24000" y="1052640"/>
          <a:ext cx="8424360" cy="5414760"/>
        </p:xfrm>
        <a:graphic>
          <a:graphicData uri="http://schemas.openxmlformats.org/drawingml/2006/table">
            <a:tbl>
              <a:tblPr/>
              <a:tblGrid>
                <a:gridCol w="3097440"/>
                <a:gridCol w="5326920"/>
              </a:tblGrid>
              <a:tr h="371160">
                <a:tc gridSpan="2"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’organizzazione scolastica: le soluzioni adottate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scuola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prassi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7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Paleocapa (BG)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stituzione di una commissione unitaria per le prove di accertamento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Tosi (Busto Arsizio – VA)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stituzione del Centro di Competenza Didattica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Hensemberger (Monza – MB)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stituzione del Responsabile di Area Laboratoriale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7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Fermi (MN)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Attribuzione di potere deliberativo ai dipartimenti per la definizione dell’orario di insegnamento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Città di Luino (VA)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14 punti per i dipartimenti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USR Lombardia</a:t>
                      </a: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(raccogliendo i suggerimenti delle scuole)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  <a:hlinkClick r:id="rId1"/>
                        </a:rPr>
                        <a:t>Prime indicazioni per la definizione del ruolo e della composizione del CTS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 u="sng">
                          <a:solidFill>
                            <a:srgbClr val="1f497d"/>
                          </a:solidFill>
                          <a:uFillTx/>
                          <a:latin typeface="Arial"/>
                          <a:ea typeface="Calibri"/>
                        </a:rPr>
                        <a:t>Prime indicazioni sulla configurazione dei dipartimenti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07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USR Lombardia </a:t>
                      </a: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raccogliendo i suggerimenti delle scuole)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Apertura di un cantiere in Requs per la raccolta e lo scambio della documentazione prodotta dai CTS attivi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Raccolta degli organigrammi delle scuole che comprendono i nuovi organismi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CasellaDiTesto 4"/>
          <p:cNvSpPr/>
          <p:nvPr/>
        </p:nvSpPr>
        <p:spPr>
          <a:xfrm>
            <a:off x="1403280" y="189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Cosa fanno le scuole?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2" name="CasellaDiTesto 6"/>
          <p:cNvSpPr/>
          <p:nvPr/>
        </p:nvSpPr>
        <p:spPr>
          <a:xfrm>
            <a:off x="971640" y="549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L’organizzazion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324000" y="1266120"/>
            <a:ext cx="8424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Definizione, descrizione e articolazione della domanda di competenze cui la scuola può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fornire risposta;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Messa a punto dei percorsi di apprendimento, in particolare mediante l’integrazione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dell’attività di alternanza, di tirocinio, di ricerca e laboratorio.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Arial"/>
              </a:rPr>
              <a:t>P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rogettazione di prove di accertamento (in particolare per gli aspetti di simulazione del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contesto di applicazione e di integrazione multidisciplinare);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Arial"/>
              </a:rPr>
              <a:t>C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ostruzione di un sistema di relazioni o di partnership con i soggetti attivi sul territorio,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Utilizzo per la formazione  di  strutture e dotazioni tecnologiche (delle imprese o delle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università...)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Inserimento dei diplomati al lavoro o negli studi superiori;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4" name="CasellaDiTesto 6"/>
          <p:cNvSpPr/>
          <p:nvPr/>
        </p:nvSpPr>
        <p:spPr>
          <a:xfrm>
            <a:off x="971640" y="26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l contributo del CT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2:56:05Z</dcterms:created>
  <dc:creator>oem</dc:creator>
  <dc:description/>
  <dc:language>en-US</dc:language>
  <cp:lastModifiedBy>mariarosaria.capuano</cp:lastModifiedBy>
  <dcterms:modified xsi:type="dcterms:W3CDTF">2011-04-11T07:31:37Z</dcterms:modified>
  <cp:revision>216</cp:revision>
  <dc:subject/>
  <dc:title>Indicazioni per  il curricolo</dc:title>
</cp:coreProperties>
</file>