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F32E-67D0-468C-B5AB-C25253FDC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A4ED-3E4B-4529-AE53-6781CA9A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98C1-8D5E-4486-97F9-4A0114970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2D55-41C6-437E-BEDA-7DC946483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E042-8892-408B-8D48-256C081CF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9711-EF17-418E-9433-617D883B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83FE-93C3-49D6-9056-B75E6C78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BE20-7929-4D9A-8780-530AA2B1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0C6C-A052-47C4-B0FB-AE032EEE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D8CB-658F-4EDD-B7AA-CE2E3562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4EB0-50CB-4ECC-8D81-DD3A4221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0D35-5249-40F3-9CA2-45EB9582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A89D-EBBF-49C2-A385-7C822783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4BBC-65B3-4EB8-9390-4719E668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203C-CA9E-4959-B2DA-9B41E36C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5D1C-98E3-4C67-ABD7-D9AD63B05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DF78-AC92-4266-B68E-56DD7F465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60EF4-2CD3-4DD9-8A7F-D6D64868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E1990-2116-4797-BC72-DF447A46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1A573-E4ED-4C7F-B896-03006B5A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3F0B7-54D5-4013-8B41-8054FC32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E286E-CDD2-440E-B814-F7CE4CA6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AD71-5013-4FB9-9191-B3F60008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2E815-0AF2-4C6D-A50B-A2EB94CA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6B53C-7DB9-4A00-8B29-035457ED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ECA48-079F-4672-A1E7-115ED06D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C7E00-ED79-4295-9F52-99B6A504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94B9D-D641-45E3-AD36-9F6CCF3D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3FD52-DDEB-44D7-81FD-B39D32651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4BFD1-E7CF-4C6D-A180-9C63C675C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235D9-41E4-41F8-8A25-07449009F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C862A-DF10-4C3D-9D14-F1A01784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1833D-70BA-4712-8C1A-615FD0B2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5862-0314-47BD-9D03-45A305F7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AE7B9-0814-45B5-9E40-E7E4692C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1C9A1-A608-4A1C-A479-730FF95B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0FB59-CAE4-4C32-9C9A-9E9268F8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4E10F-9DA0-4204-86BD-0ED76ABC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DD86B-D331-4715-82B9-865F855E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B9166-22DC-46D5-AAA5-AA466A43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03E93-13EB-4C95-A532-236CBE0A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3601B-CEDE-4A8C-94CF-E771ABCAE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0826C-09CB-429B-8E2A-4B52B30D9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5D32-A0DA-4F90-A7E8-D89C74E7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06A6-719C-45B2-8FC4-80A142B8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BD90-6D9F-40D1-9B76-705255DE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93ED-3BBD-4F14-B85A-C3280456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4728-3C03-43C4-A5EB-D9B08C6F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B998-7AB2-4259-9ABB-35E569CB8090}" type="datetime">
              <a:rPr b="0" lang="it-IT" sz="1200" spc="-1" strike="noStrike">
                <a:solidFill>
                  <a:srgbClr val="465e9c"/>
                </a:solidFill>
                <a:latin typeface="Rage Italic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78D5-121A-44D3-8DA1-4B39336ADC68}" type="slidenum">
              <a:rPr b="0" lang="it-IT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884160" y="5614920"/>
            <a:ext cx="7394760" cy="547920"/>
            <a:chOff x="884160" y="5614920"/>
            <a:chExt cx="7394760" cy="54792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884160" y="5614920"/>
              <a:ext cx="739476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720" y="5617800"/>
              <a:ext cx="73818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B6C0-5922-4815-A0AC-8237C6BC1FBE}" type="datetime">
              <a:rPr b="0" lang="it-IT" sz="1200" spc="-1" strike="noStrike">
                <a:solidFill>
                  <a:srgbClr val="465e9c"/>
                </a:solidFill>
                <a:latin typeface="Rage Italic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240B-A6DA-4341-9F14-F1B9A15D592C}" type="slidenum">
              <a:rPr b="0" lang="it-IT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8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1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14" name="Rectangle 9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1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17" name="Freeform 10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118" name="Freeform 10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20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DDCB-CE0A-4249-8656-82F5AD495A98}" type="datetime">
              <a:rPr b="0" lang="it-IT" sz="1200" spc="-1" strike="noStrike">
                <a:solidFill>
                  <a:srgbClr val="465e9c"/>
                </a:solidFill>
                <a:latin typeface="Rage Italic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FA5A-7351-4158-B431-A4EAFBA609FF}" type="slidenum">
              <a:rPr b="0" lang="it-IT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8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6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71" name="Rectangle 9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7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74" name="Freeform 30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175" name="Freeform 30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77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F53F-35C8-412A-B764-46CC11EF5B0D}" type="datetime">
              <a:rPr b="0" lang="it-IT" sz="1200" spc="-1" strike="noStrike">
                <a:solidFill>
                  <a:srgbClr val="465e9c"/>
                </a:solidFill>
                <a:latin typeface="Rage Italic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6F41-859B-4E79-BCC3-72488933D6D7}" type="slidenum">
              <a:rPr b="0" lang="it-IT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hyperlink" Target="file:///ATTO%20COSTITUTIVO.docx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200240" y="596880"/>
            <a:ext cx="1079280" cy="950760"/>
          </a:xfrm>
          <a:prstGeom prst="rect">
            <a:avLst/>
          </a:prstGeom>
          <a:ln w="0">
            <a:noFill/>
          </a:ln>
        </p:spPr>
      </p:pic>
      <p:pic>
        <p:nvPicPr>
          <p:cNvPr id="225" name="Rettangolo 1" descr=""/>
          <p:cNvPicPr/>
          <p:nvPr/>
        </p:nvPicPr>
        <p:blipFill>
          <a:blip r:embed="rId2"/>
          <a:stretch/>
        </p:blipFill>
        <p:spPr>
          <a:xfrm>
            <a:off x="2176560" y="463680"/>
            <a:ext cx="6387840" cy="1358640"/>
          </a:xfrm>
          <a:prstGeom prst="rect">
            <a:avLst/>
          </a:prstGeom>
          <a:ln w="0">
            <a:noFill/>
          </a:ln>
        </p:spPr>
      </p:pic>
      <p:sp>
        <p:nvSpPr>
          <p:cNvPr id="226" name="CasellaDiTesto 3"/>
          <p:cNvSpPr/>
          <p:nvPr/>
        </p:nvSpPr>
        <p:spPr>
          <a:xfrm>
            <a:off x="1116000" y="1989000"/>
            <a:ext cx="66708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2060"/>
                </a:solidFill>
                <a:latin typeface="Franklin Gothic Book"/>
              </a:rPr>
              <a:t>CARATTERISTICHE DEL CTS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2060"/>
                </a:solidFill>
                <a:latin typeface="Franklin Gothic Book"/>
              </a:rPr>
              <a:t>COMITATO TECNICO SCIENTIFICO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CasellaDiTesto 6"/>
          <p:cNvSpPr/>
          <p:nvPr/>
        </p:nvSpPr>
        <p:spPr>
          <a:xfrm>
            <a:off x="2890080" y="3701880"/>
            <a:ext cx="341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Franklin Gothic Book"/>
              </a:rPr>
              <a:t>a cura di Marzia CAMPIONI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CasellaDiTesto 10"/>
          <p:cNvSpPr/>
          <p:nvPr/>
        </p:nvSpPr>
        <p:spPr>
          <a:xfrm>
            <a:off x="1927800" y="5830920"/>
            <a:ext cx="523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Franklin Gothic Book"/>
              </a:rPr>
              <a:t>Via Raffaello SANZIO, 2 – RHO (MILANO)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CasellaDiTesto 11"/>
          <p:cNvSpPr/>
          <p:nvPr/>
        </p:nvSpPr>
        <p:spPr>
          <a:xfrm>
            <a:off x="684360" y="44308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Franklin Gothic Book"/>
              </a:rPr>
              <a:t>anno scolastico 2010-2011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" name="Segnaposto numero diapositiva 2"/>
          <p:cNvSpPr/>
          <p:nvPr/>
        </p:nvSpPr>
        <p:spPr>
          <a:xfrm>
            <a:off x="767088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F98E-9316-44EC-93F3-BEBAF227C192}" type="slidenum">
              <a:rPr b="0" lang="it-IT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1347840" y="596880"/>
            <a:ext cx="1077840" cy="950760"/>
          </a:xfrm>
          <a:prstGeom prst="rect">
            <a:avLst/>
          </a:prstGeom>
          <a:ln w="0">
            <a:noFill/>
          </a:ln>
        </p:spPr>
      </p:pic>
      <p:pic>
        <p:nvPicPr>
          <p:cNvPr id="232" name="Rettangolo 1" descr=""/>
          <p:cNvPicPr/>
          <p:nvPr/>
        </p:nvPicPr>
        <p:blipFill>
          <a:blip r:embed="rId2"/>
          <a:stretch/>
        </p:blipFill>
        <p:spPr>
          <a:xfrm>
            <a:off x="2127240" y="444600"/>
            <a:ext cx="6383520" cy="1360440"/>
          </a:xfrm>
          <a:prstGeom prst="rect">
            <a:avLst/>
          </a:prstGeom>
          <a:ln w="0">
            <a:noFill/>
          </a:ln>
        </p:spPr>
      </p:pic>
      <p:sp>
        <p:nvSpPr>
          <p:cNvPr id="233" name="CasellaDiTesto 10"/>
          <p:cNvSpPr/>
          <p:nvPr/>
        </p:nvSpPr>
        <p:spPr>
          <a:xfrm>
            <a:off x="1927800" y="5830920"/>
            <a:ext cx="523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Franklin Gothic Book"/>
              </a:rPr>
              <a:t>Via Raffaello SANZIO, 2 – RHO (MILANO)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CasellaDiTesto 2"/>
          <p:cNvSpPr/>
          <p:nvPr/>
        </p:nvSpPr>
        <p:spPr>
          <a:xfrm>
            <a:off x="1176480" y="1503360"/>
            <a:ext cx="66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Franklin Gothic Book"/>
              </a:rPr>
              <a:t>L’ITIS «S. CANNIZZARO</a:t>
            </a: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» di RHO (MILANO) è  costituito da du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INDIRIZZI consolidati e che via dal primo biennio si stanno adattando al Nuovo  Ordinamento, un INDIRIZZO del nuovo ordinamento che è iniziato lo scorso anno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235" name="Connettore 2 8"/>
          <p:cNvCxnSpPr/>
          <p:nvPr/>
        </p:nvCxnSpPr>
        <p:spPr>
          <a:xfrm flipH="1">
            <a:off x="3071160" y="2644920"/>
            <a:ext cx="500760" cy="3988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arrow" w="med"/>
          </a:ln>
        </p:spPr>
      </p:cxnSp>
      <p:sp>
        <p:nvSpPr>
          <p:cNvPr id="236" name="CasellaDiTesto 13"/>
          <p:cNvSpPr/>
          <p:nvPr/>
        </p:nvSpPr>
        <p:spPr>
          <a:xfrm>
            <a:off x="1500480" y="3043080"/>
            <a:ext cx="239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INDIRIZZO CHIMICO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(DEUTERIO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7" name="CasellaDiTesto 16"/>
          <p:cNvSpPr/>
          <p:nvPr/>
        </p:nvSpPr>
        <p:spPr>
          <a:xfrm>
            <a:off x="969120" y="4051440"/>
            <a:ext cx="2567160" cy="642600"/>
          </a:xfrm>
          <a:prstGeom prst="rect">
            <a:avLst/>
          </a:prstGeom>
          <a:noFill/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00"/>
                </a:solidFill>
                <a:latin typeface="Franklin Gothic Book"/>
              </a:rPr>
              <a:t>CHIMICA MATERIALI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00"/>
                </a:solidFill>
                <a:latin typeface="Franklin Gothic Book"/>
              </a:rPr>
              <a:t>E BIOTECNOLOGI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238" name="Connettore 2 19"/>
          <p:cNvCxnSpPr>
            <a:stCxn id="236" idx="2"/>
          </p:cNvCxnSpPr>
          <p:nvPr/>
        </p:nvCxnSpPr>
        <p:spPr>
          <a:xfrm flipH="1">
            <a:off x="2220480" y="3689280"/>
            <a:ext cx="478800" cy="36252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239" name="Connettore 2 22"/>
          <p:cNvCxnSpPr/>
          <p:nvPr/>
        </p:nvCxnSpPr>
        <p:spPr>
          <a:xfrm flipH="1">
            <a:off x="1643760" y="4703760"/>
            <a:ext cx="545400" cy="3974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arrow" w="med"/>
          </a:ln>
        </p:spPr>
      </p:cxnSp>
      <p:sp>
        <p:nvSpPr>
          <p:cNvPr id="240" name="CasellaDiTesto 5"/>
          <p:cNvSpPr/>
          <p:nvPr/>
        </p:nvSpPr>
        <p:spPr>
          <a:xfrm>
            <a:off x="963720" y="5159520"/>
            <a:ext cx="142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Chimica e materiali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CasellaDiTesto 14"/>
          <p:cNvSpPr/>
          <p:nvPr/>
        </p:nvSpPr>
        <p:spPr>
          <a:xfrm>
            <a:off x="2228760" y="515952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Biotecnologie ambientali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242" name="Connettore 2 7"/>
          <p:cNvCxnSpPr>
            <a:stCxn id="237" idx="2"/>
          </p:cNvCxnSpPr>
          <p:nvPr/>
        </p:nvCxnSpPr>
        <p:spPr>
          <a:xfrm>
            <a:off x="2252160" y="4697280"/>
            <a:ext cx="607320" cy="38016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arrow" w="med"/>
          </a:ln>
        </p:spPr>
      </p:cxnSp>
      <p:sp>
        <p:nvSpPr>
          <p:cNvPr id="243" name="CasellaDiTesto 13"/>
          <p:cNvSpPr/>
          <p:nvPr/>
        </p:nvSpPr>
        <p:spPr>
          <a:xfrm>
            <a:off x="3568320" y="3063960"/>
            <a:ext cx="29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INDIRIZZO INFORMATICO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(ABACUS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4" name="Rettangolo 9"/>
          <p:cNvSpPr/>
          <p:nvPr/>
        </p:nvSpPr>
        <p:spPr>
          <a:xfrm>
            <a:off x="1343160" y="2843280"/>
            <a:ext cx="6613560" cy="1025280"/>
          </a:xfrm>
          <a:prstGeom prst="rect">
            <a:avLst/>
          </a:prstGeom>
          <a:noFill/>
          <a:ln w="15840">
            <a:solidFill>
              <a:srgbClr val="8a2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245" name="Connettore 2 12"/>
          <p:cNvCxnSpPr/>
          <p:nvPr/>
        </p:nvCxnSpPr>
        <p:spPr>
          <a:xfrm>
            <a:off x="4544640" y="2644920"/>
            <a:ext cx="315000" cy="419760"/>
          </a:xfrm>
          <a:prstGeom prst="straightConnector1">
            <a:avLst/>
          </a:prstGeom>
          <a:ln w="25560">
            <a:solidFill>
              <a:srgbClr val="aa2b1e"/>
            </a:solidFill>
            <a:miter/>
            <a:tailEnd len="med" type="arrow" w="med"/>
          </a:ln>
        </p:spPr>
      </p:cxnSp>
      <p:cxnSp>
        <p:nvCxnSpPr>
          <p:cNvPr id="246" name="Connettore 2 15"/>
          <p:cNvCxnSpPr/>
          <p:nvPr/>
        </p:nvCxnSpPr>
        <p:spPr>
          <a:xfrm>
            <a:off x="4701960" y="3614760"/>
            <a:ext cx="1080" cy="511920"/>
          </a:xfrm>
          <a:prstGeom prst="straightConnector1">
            <a:avLst/>
          </a:prstGeom>
          <a:ln w="25560">
            <a:solidFill>
              <a:srgbClr val="aa2b1e"/>
            </a:solidFill>
            <a:miter/>
            <a:tailEnd len="med" type="arrow" w="med"/>
          </a:ln>
        </p:spPr>
      </p:cxnSp>
      <p:sp>
        <p:nvSpPr>
          <p:cNvPr id="247" name="CasellaDiTesto 16"/>
          <p:cNvSpPr/>
          <p:nvPr/>
        </p:nvSpPr>
        <p:spPr>
          <a:xfrm>
            <a:off x="3675240" y="4059360"/>
            <a:ext cx="2369880" cy="916920"/>
          </a:xfrm>
          <a:prstGeom prst="rect">
            <a:avLst/>
          </a:prstGeom>
          <a:noFill/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f5201"/>
                </a:solidFill>
                <a:latin typeface="Franklin Gothic Book"/>
              </a:rPr>
              <a:t>INFORMATICA  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f5201"/>
                </a:solidFill>
                <a:latin typeface="Franklin Gothic Book"/>
              </a:rPr>
              <a:t>TELECOMUNICAZIONI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248" name="Connettore 2 18"/>
          <p:cNvCxnSpPr>
            <a:stCxn id="247" idx="2"/>
          </p:cNvCxnSpPr>
          <p:nvPr/>
        </p:nvCxnSpPr>
        <p:spPr>
          <a:xfrm>
            <a:off x="4858920" y="4705200"/>
            <a:ext cx="1080" cy="597600"/>
          </a:xfrm>
          <a:prstGeom prst="straightConnector1">
            <a:avLst/>
          </a:prstGeom>
          <a:ln w="25560">
            <a:solidFill>
              <a:srgbClr val="aa2b1e"/>
            </a:solidFill>
            <a:miter/>
            <a:tailEnd len="med" type="arrow" w="med"/>
          </a:ln>
        </p:spPr>
      </p:cxnSp>
      <p:sp>
        <p:nvSpPr>
          <p:cNvPr id="249" name="CasellaDiTesto 27"/>
          <p:cNvSpPr/>
          <p:nvPr/>
        </p:nvSpPr>
        <p:spPr>
          <a:xfrm>
            <a:off x="4098960" y="5321160"/>
            <a:ext cx="15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Informatic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CasellaDiTesto 16"/>
          <p:cNvSpPr/>
          <p:nvPr/>
        </p:nvSpPr>
        <p:spPr>
          <a:xfrm>
            <a:off x="6012000" y="4581360"/>
            <a:ext cx="2369880" cy="642600"/>
          </a:xfrm>
          <a:prstGeom prst="rect">
            <a:avLst/>
          </a:prstGeom>
          <a:noFill/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66"/>
                </a:solidFill>
                <a:latin typeface="Franklin Gothic Book"/>
              </a:rPr>
              <a:t>GRAFICA 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66"/>
                </a:solidFill>
                <a:latin typeface="Franklin Gothic Book"/>
              </a:rPr>
              <a:t>COMUNICAZION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1" name="Segnaposto numero diapositiva 20"/>
          <p:cNvSpPr/>
          <p:nvPr/>
        </p:nvSpPr>
        <p:spPr>
          <a:xfrm>
            <a:off x="767088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90E3-506E-462E-A9E4-1D0BF67F379A}" type="slidenum">
              <a:rPr b="0" lang="it-IT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252" name="Connettore 2 25"/>
          <p:cNvCxnSpPr/>
          <p:nvPr/>
        </p:nvCxnSpPr>
        <p:spPr>
          <a:xfrm>
            <a:off x="6659640" y="3933360"/>
            <a:ext cx="434160" cy="575640"/>
          </a:xfrm>
          <a:prstGeom prst="straightConnector1">
            <a:avLst/>
          </a:prstGeom>
          <a:ln w="25560">
            <a:solidFill>
              <a:srgbClr val="ff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347840" y="596880"/>
            <a:ext cx="1077840" cy="950760"/>
          </a:xfrm>
          <a:prstGeom prst="rect">
            <a:avLst/>
          </a:prstGeom>
          <a:ln w="0">
            <a:noFill/>
          </a:ln>
        </p:spPr>
      </p:pic>
      <p:pic>
        <p:nvPicPr>
          <p:cNvPr id="254" name="Rettangolo 1" descr=""/>
          <p:cNvPicPr/>
          <p:nvPr/>
        </p:nvPicPr>
        <p:blipFill>
          <a:blip r:embed="rId2"/>
          <a:stretch/>
        </p:blipFill>
        <p:spPr>
          <a:xfrm>
            <a:off x="2127240" y="444600"/>
            <a:ext cx="6383520" cy="1360440"/>
          </a:xfrm>
          <a:prstGeom prst="rect">
            <a:avLst/>
          </a:prstGeom>
          <a:ln w="0">
            <a:noFill/>
          </a:ln>
        </p:spPr>
      </p:pic>
      <p:sp>
        <p:nvSpPr>
          <p:cNvPr id="255" name="CasellaDiTesto 10"/>
          <p:cNvSpPr/>
          <p:nvPr/>
        </p:nvSpPr>
        <p:spPr>
          <a:xfrm>
            <a:off x="1927800" y="5830920"/>
            <a:ext cx="523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Franklin Gothic Book"/>
              </a:rPr>
              <a:t>Via Raffaello SANZIO, 2 – RHO (MILANO)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Segnaposto numero diapositiva 2"/>
          <p:cNvSpPr/>
          <p:nvPr/>
        </p:nvSpPr>
        <p:spPr>
          <a:xfrm>
            <a:off x="767088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4D55-E9B6-46AA-B9D2-A747141DD2C7}" type="slidenum">
              <a:rPr b="0" lang="it-IT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CasellaDiTesto 3"/>
          <p:cNvSpPr/>
          <p:nvPr/>
        </p:nvSpPr>
        <p:spPr>
          <a:xfrm>
            <a:off x="1015920" y="1628640"/>
            <a:ext cx="705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Il C.T.S  si è costituito nell’anno scolastico </a:t>
            </a:r>
            <a:r>
              <a:rPr b="1" lang="it-IT" sz="1800" spc="-1" strike="noStrike">
                <a:solidFill>
                  <a:srgbClr val="002060"/>
                </a:solidFill>
                <a:latin typeface="Franklin Gothic Book"/>
              </a:rPr>
              <a:t>2009 -2010 </a:t>
            </a: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per volere dell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Dirigenza Scolastica a seguito della partecipazione dell’Istituto alla SPERIMENTAZIONE REGIONALE SUI NUOVI ORDINAMENTI ed è composto da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258" name="Connettore 2 6"/>
          <p:cNvCxnSpPr/>
          <p:nvPr/>
        </p:nvCxnSpPr>
        <p:spPr>
          <a:xfrm flipH="1">
            <a:off x="2268360" y="2828520"/>
            <a:ext cx="1440360" cy="81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9" name="Connettore 2 11"/>
          <p:cNvCxnSpPr/>
          <p:nvPr/>
        </p:nvCxnSpPr>
        <p:spPr>
          <a:xfrm>
            <a:off x="3708360" y="2828880"/>
            <a:ext cx="288000" cy="96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0" name="Connettore 2 16"/>
          <p:cNvCxnSpPr/>
          <p:nvPr/>
        </p:nvCxnSpPr>
        <p:spPr>
          <a:xfrm>
            <a:off x="3708360" y="2828880"/>
            <a:ext cx="2016720" cy="1077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1" name="Connettore 2 6144"/>
          <p:cNvCxnSpPr/>
          <p:nvPr/>
        </p:nvCxnSpPr>
        <p:spPr>
          <a:xfrm>
            <a:off x="3708000" y="2828880"/>
            <a:ext cx="2880360" cy="745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2" name="CasellaDiTesto 6149"/>
          <p:cNvSpPr/>
          <p:nvPr/>
        </p:nvSpPr>
        <p:spPr>
          <a:xfrm>
            <a:off x="1896840" y="371952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Franklin Gothic Book"/>
              </a:rPr>
              <a:t>D.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" name="CasellaDiTesto 41"/>
          <p:cNvSpPr/>
          <p:nvPr/>
        </p:nvSpPr>
        <p:spPr>
          <a:xfrm>
            <a:off x="2994840" y="3827520"/>
            <a:ext cx="200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Franklin Gothic Book"/>
              </a:rPr>
              <a:t>AZIEND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ROLD elettronic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ARKEM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CasellaDiTesto 42"/>
          <p:cNvSpPr/>
          <p:nvPr/>
        </p:nvSpPr>
        <p:spPr>
          <a:xfrm>
            <a:off x="6513840" y="3603600"/>
            <a:ext cx="7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Franklin Gothic Book"/>
              </a:rPr>
              <a:t>RSPP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CasellaDiTesto 44"/>
          <p:cNvSpPr/>
          <p:nvPr/>
        </p:nvSpPr>
        <p:spPr>
          <a:xfrm>
            <a:off x="5153760" y="4057560"/>
            <a:ext cx="18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Franklin Gothic Book"/>
              </a:rPr>
              <a:t>DOCENTI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1 per indirizzzo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1347840" y="596880"/>
            <a:ext cx="1077840" cy="950760"/>
          </a:xfrm>
          <a:prstGeom prst="rect">
            <a:avLst/>
          </a:prstGeom>
          <a:ln w="0">
            <a:noFill/>
          </a:ln>
        </p:spPr>
      </p:pic>
      <p:pic>
        <p:nvPicPr>
          <p:cNvPr id="267" name="Rettangolo 1" descr=""/>
          <p:cNvPicPr/>
          <p:nvPr/>
        </p:nvPicPr>
        <p:blipFill>
          <a:blip r:embed="rId2"/>
          <a:stretch/>
        </p:blipFill>
        <p:spPr>
          <a:xfrm>
            <a:off x="2127240" y="444600"/>
            <a:ext cx="6383520" cy="1360440"/>
          </a:xfrm>
          <a:prstGeom prst="rect">
            <a:avLst/>
          </a:prstGeom>
          <a:ln w="0">
            <a:noFill/>
          </a:ln>
        </p:spPr>
      </p:pic>
      <p:sp>
        <p:nvSpPr>
          <p:cNvPr id="268" name="CasellaDiTesto 10"/>
          <p:cNvSpPr/>
          <p:nvPr/>
        </p:nvSpPr>
        <p:spPr>
          <a:xfrm>
            <a:off x="1927800" y="5830920"/>
            <a:ext cx="523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Franklin Gothic Book"/>
              </a:rPr>
              <a:t>Via Raffaello SANZIO, 2 – RHO (MILANO)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Segnaposto numero diapositiva 2"/>
          <p:cNvSpPr/>
          <p:nvPr/>
        </p:nvSpPr>
        <p:spPr>
          <a:xfrm>
            <a:off x="767088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2E81-0430-4E56-B0C5-DDF5DDDED66E}" type="slidenum">
              <a:rPr b="0" lang="it-IT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CasellaDiTesto 4"/>
          <p:cNvSpPr/>
          <p:nvPr/>
        </p:nvSpPr>
        <p:spPr>
          <a:xfrm>
            <a:off x="2200320" y="1846440"/>
            <a:ext cx="46627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d83e2c"/>
                </a:solidFill>
                <a:uFillTx/>
                <a:latin typeface="Franklin Gothic Book"/>
                <a:hlinkClick r:id="rId3"/>
              </a:rPr>
              <a:t>ATTO COSTITUTIVO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Franklin Gothic Book"/>
              </a:rPr>
              <a:t>(</a:t>
            </a: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ALLEGATO ALLA PRESENTE DIAPOSITIVA</a:t>
            </a:r>
            <a:r>
              <a:rPr b="1" lang="it-IT" sz="18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1" name="CasellaDiTesto 5"/>
          <p:cNvSpPr/>
          <p:nvPr/>
        </p:nvSpPr>
        <p:spPr>
          <a:xfrm>
            <a:off x="3084480" y="1547640"/>
            <a:ext cx="29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E’  STATO  ISTITUITO  CO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2" name="CasellaDiTesto 7"/>
          <p:cNvSpPr/>
          <p:nvPr/>
        </p:nvSpPr>
        <p:spPr>
          <a:xfrm>
            <a:off x="755640" y="25020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Negli articoli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dell’ATTO COSTITUTIVO </a:t>
            </a: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ci sono le caratteristiche principali del CTS dell’ITIS Cannizzaro e soprattutto: 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3" name="Rettangolo 8"/>
          <p:cNvSpPr/>
          <p:nvPr/>
        </p:nvSpPr>
        <p:spPr>
          <a:xfrm>
            <a:off x="755640" y="3071880"/>
            <a:ext cx="7704000" cy="28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Franklin Gothic Book"/>
              </a:rPr>
              <a:t>ART.3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Franklin Gothic Book"/>
              </a:rPr>
              <a:t>OBIETTIVI del C.T.S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Franklin Gothic Book"/>
              </a:rPr>
              <a:t>Il C.T.S </a:t>
            </a:r>
            <a:r>
              <a:rPr b="1" i="1" lang="it-IT" sz="1600" spc="-1" strike="noStrike" u="sng">
                <a:solidFill>
                  <a:srgbClr val="000000"/>
                </a:solidFill>
                <a:uFillTx/>
                <a:latin typeface="Franklin Gothic Book"/>
              </a:rPr>
              <a:t>ha funzioni consultive e di proposta </a:t>
            </a:r>
            <a:r>
              <a:rPr b="0" i="1" lang="it-IT" sz="1600" spc="-1" strike="noStrike">
                <a:solidFill>
                  <a:srgbClr val="000000"/>
                </a:solidFill>
                <a:latin typeface="Franklin Gothic Book"/>
              </a:rPr>
              <a:t>per la organizzazione delle </a:t>
            </a:r>
            <a:r>
              <a:rPr b="1" i="1" lang="it-IT" sz="1600" spc="-1" strike="noStrike" u="sng">
                <a:solidFill>
                  <a:srgbClr val="000000"/>
                </a:solidFill>
                <a:uFillTx/>
                <a:latin typeface="Franklin Gothic Book"/>
              </a:rPr>
              <a:t>aree di indirizzo </a:t>
            </a:r>
            <a:r>
              <a:rPr b="0" i="1" lang="it-IT" sz="1600" spc="-1" strike="noStrike">
                <a:solidFill>
                  <a:srgbClr val="000000"/>
                </a:solidFill>
                <a:latin typeface="Franklin Gothic Book"/>
              </a:rPr>
              <a:t>e l’utilizzo degli spazi di autonomia e flessibilità nella organizzazione dell’offerta didattica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Franklin Gothic Book"/>
              </a:rPr>
              <a:t>ART. 4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Franklin Gothic Book"/>
              </a:rPr>
              <a:t>COMPITI del C.T.S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Franklin Gothic Book"/>
              </a:rPr>
              <a:t>Il C.T.S. </a:t>
            </a:r>
            <a:r>
              <a:rPr b="1" i="1" lang="it-IT" sz="1600" spc="-1" strike="noStrike" u="sng">
                <a:solidFill>
                  <a:srgbClr val="000000"/>
                </a:solidFill>
                <a:uFillTx/>
                <a:latin typeface="Franklin Gothic Book"/>
              </a:rPr>
              <a:t>formula i criteri per l’individuazione di esperti del mondo del lavoro </a:t>
            </a:r>
            <a:r>
              <a:rPr b="0" i="1" lang="it-IT" sz="1600" spc="-1" strike="noStrike">
                <a:solidFill>
                  <a:srgbClr val="000000"/>
                </a:solidFill>
                <a:latin typeface="Franklin Gothic Book"/>
              </a:rPr>
              <a:t>e di esperti per </a:t>
            </a:r>
            <a:r>
              <a:rPr b="1" i="1" lang="it-IT" sz="1600" spc="-1" strike="noStrike" u="sng">
                <a:solidFill>
                  <a:srgbClr val="000000"/>
                </a:solidFill>
                <a:uFillTx/>
                <a:latin typeface="Franklin Gothic Book"/>
              </a:rPr>
              <a:t>l’arricchimento dell’offerta formativa</a:t>
            </a:r>
            <a:r>
              <a:rPr b="0" i="1" lang="it-IT" sz="1600" spc="-1" strike="noStrike">
                <a:solidFill>
                  <a:srgbClr val="000000"/>
                </a:solidFill>
                <a:latin typeface="Franklin Gothic Book"/>
              </a:rPr>
              <a:t>, anche attraverso la stipula di contratti d’opera, al fine di attivare specifiche attività didattiche che richiedono spazi e/o competenze specialistici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1347840" y="596880"/>
            <a:ext cx="1077840" cy="950760"/>
          </a:xfrm>
          <a:prstGeom prst="rect">
            <a:avLst/>
          </a:prstGeom>
          <a:ln w="0">
            <a:noFill/>
          </a:ln>
        </p:spPr>
      </p:pic>
      <p:pic>
        <p:nvPicPr>
          <p:cNvPr id="275" name="Rettangolo 1" descr=""/>
          <p:cNvPicPr/>
          <p:nvPr/>
        </p:nvPicPr>
        <p:blipFill>
          <a:blip r:embed="rId2"/>
          <a:stretch/>
        </p:blipFill>
        <p:spPr>
          <a:xfrm>
            <a:off x="2127240" y="444600"/>
            <a:ext cx="6383520" cy="1360440"/>
          </a:xfrm>
          <a:prstGeom prst="rect">
            <a:avLst/>
          </a:prstGeom>
          <a:ln w="0">
            <a:noFill/>
          </a:ln>
        </p:spPr>
      </p:pic>
      <p:sp>
        <p:nvSpPr>
          <p:cNvPr id="276" name="CasellaDiTesto 10"/>
          <p:cNvSpPr/>
          <p:nvPr/>
        </p:nvSpPr>
        <p:spPr>
          <a:xfrm>
            <a:off x="1927800" y="5830920"/>
            <a:ext cx="523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Franklin Gothic Book"/>
              </a:rPr>
              <a:t>Via Raffaello SANZIO, 2 – RHO (MILANO)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Segnaposto numero diapositiva 2"/>
          <p:cNvSpPr/>
          <p:nvPr/>
        </p:nvSpPr>
        <p:spPr>
          <a:xfrm>
            <a:off x="767088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79EA-01BA-4CB2-B06D-BB425D4157D9}" type="slidenum">
              <a:rPr b="0" lang="it-IT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8" name="CasellaDiTesto 3"/>
          <p:cNvSpPr/>
          <p:nvPr/>
        </p:nvSpPr>
        <p:spPr>
          <a:xfrm>
            <a:off x="746280" y="144144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Franklin Gothic Book"/>
              </a:rPr>
              <a:t>ATTIVITA’  SVOLTE  E  IN  ATTO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9" name="CasellaDiTesto 6"/>
          <p:cNvSpPr/>
          <p:nvPr/>
        </p:nvSpPr>
        <p:spPr>
          <a:xfrm>
            <a:off x="1052640" y="1717560"/>
            <a:ext cx="698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Franklin Gothic Book"/>
              </a:rPr>
              <a:t>1° ANNO – 2009/2010  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Riflessione e confronto sulle competenze in uscita sia dal  punto dello sviluppo della persona che quelle professionali;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Incontro tra i rappresentanti delle aziende e il Collegio docenti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Ricerca su punti di incontro e sulle possibili convergenze tra richieste della scuola e dell’azienda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CasellaDiTesto 6"/>
          <p:cNvSpPr/>
          <p:nvPr/>
        </p:nvSpPr>
        <p:spPr>
          <a:xfrm>
            <a:off x="1125360" y="3441600"/>
            <a:ext cx="698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Franklin Gothic Book"/>
              </a:rPr>
              <a:t>2° ANNO – 2010/2011  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Stesura per quanto riguarda l’indirizzo chimico delle competenze e delle possibili attività;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Attività volte alla valutazione della cultura tecnologica e delle scelte di orientamento degli studenti in entrat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Attività volte a riconoscere l’attività della scuola e dell’azienda nel territorio come «valori sociali e culturali»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Messa a punto di modelli di alternanza e di valutazione e certificazione di competenze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1347840" y="596880"/>
            <a:ext cx="1077840" cy="950760"/>
          </a:xfrm>
          <a:prstGeom prst="rect">
            <a:avLst/>
          </a:prstGeom>
          <a:ln w="0">
            <a:noFill/>
          </a:ln>
        </p:spPr>
      </p:pic>
      <p:pic>
        <p:nvPicPr>
          <p:cNvPr id="282" name="Rettangolo 1" descr=""/>
          <p:cNvPicPr/>
          <p:nvPr/>
        </p:nvPicPr>
        <p:blipFill>
          <a:blip r:embed="rId2"/>
          <a:stretch/>
        </p:blipFill>
        <p:spPr>
          <a:xfrm>
            <a:off x="2127240" y="444600"/>
            <a:ext cx="6383520" cy="1360440"/>
          </a:xfrm>
          <a:prstGeom prst="rect">
            <a:avLst/>
          </a:prstGeom>
          <a:ln w="0">
            <a:noFill/>
          </a:ln>
        </p:spPr>
      </p:pic>
      <p:sp>
        <p:nvSpPr>
          <p:cNvPr id="283" name="CasellaDiTesto 10"/>
          <p:cNvSpPr/>
          <p:nvPr/>
        </p:nvSpPr>
        <p:spPr>
          <a:xfrm>
            <a:off x="1927080" y="5877000"/>
            <a:ext cx="523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Franklin Gothic Book"/>
              </a:rPr>
              <a:t>Via Raffaello SANZIO, 2 – RHO (MILANO)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Segnaposto numero diapositiva 2"/>
          <p:cNvSpPr/>
          <p:nvPr/>
        </p:nvSpPr>
        <p:spPr>
          <a:xfrm>
            <a:off x="767088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D391-C66C-4974-8A70-9D791F11F388}" type="slidenum">
              <a:rPr b="0" lang="it-IT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5" name="CasellaDiTesto 3"/>
          <p:cNvSpPr/>
          <p:nvPr/>
        </p:nvSpPr>
        <p:spPr>
          <a:xfrm>
            <a:off x="755640" y="16286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Franklin Gothic Book"/>
              </a:rPr>
              <a:t>CONCLUSIONI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CasellaDiTesto 8"/>
          <p:cNvSpPr/>
          <p:nvPr/>
        </p:nvSpPr>
        <p:spPr>
          <a:xfrm>
            <a:off x="971640" y="2205000"/>
            <a:ext cx="705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Franklin Gothic Book"/>
              </a:rPr>
              <a:t>La nostra “Buona Pratica” sta nel riconoscere che la presenza di un </a:t>
            </a:r>
            <a:r>
              <a:rPr b="1" lang="it-IT" sz="2400" spc="-1" strike="noStrike">
                <a:solidFill>
                  <a:srgbClr val="000000"/>
                </a:solidFill>
                <a:latin typeface="Franklin Gothic Book"/>
              </a:rPr>
              <a:t>CTS</a:t>
            </a:r>
            <a:r>
              <a:rPr b="0" lang="it-IT" sz="2400" spc="-1" strike="noStrike">
                <a:solidFill>
                  <a:srgbClr val="000000"/>
                </a:solidFill>
                <a:latin typeface="Franklin Gothic Book"/>
              </a:rPr>
              <a:t>  oltre a dare uno stimolo alla scuola verso un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innovazione dell’offerta formativa </a:t>
            </a:r>
            <a:r>
              <a:rPr b="0" lang="it-IT" sz="2400" spc="-1" strike="noStrike">
                <a:solidFill>
                  <a:srgbClr val="000000"/>
                </a:solidFill>
                <a:latin typeface="Franklin Gothic Book"/>
              </a:rPr>
              <a:t>in termini di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individuazione delle competenze </a:t>
            </a:r>
            <a:r>
              <a:rPr b="0" lang="it-IT" sz="2400" spc="-1" strike="noStrike">
                <a:solidFill>
                  <a:srgbClr val="000000"/>
                </a:solidFill>
                <a:latin typeface="Franklin Gothic Book"/>
              </a:rPr>
              <a:t>sia di base che specifiche e di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sistemi di valutazione  e certificazione non più autorefernziali , </a:t>
            </a:r>
            <a:r>
              <a:rPr b="0" lang="it-IT" sz="2400" spc="-1" strike="noStrike">
                <a:solidFill>
                  <a:srgbClr val="000000"/>
                </a:solidFill>
                <a:latin typeface="Franklin Gothic Book"/>
              </a:rPr>
              <a:t>permette alla scuola di costruirsi culturale nel territorio.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 un identità sociale e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06:58:51Z</dcterms:created>
  <dc:creator>User</dc:creator>
  <dc:description/>
  <dc:language>en-US</dc:language>
  <cp:lastModifiedBy>itis</cp:lastModifiedBy>
  <dcterms:modified xsi:type="dcterms:W3CDTF">2011-04-06T13:59:26Z</dcterms:modified>
  <cp:revision>88</cp:revision>
  <dc:subject/>
  <dc:title>Presentazione standard di PowerPoint</dc:title>
</cp:coreProperties>
</file>