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18032-0394-4182-8661-2335FE42A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79280" y="3660480"/>
            <a:ext cx="87854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E53E9-A99C-4C6A-97A1-E85156AE7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440" y="76464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9280" y="366048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440" y="366048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56AA0-84A6-4CCC-BB02-3D9CEE3AB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28285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9640" y="764640"/>
            <a:ext cx="28285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0000" y="764640"/>
            <a:ext cx="28285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79280" y="3660480"/>
            <a:ext cx="28285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9640" y="3660480"/>
            <a:ext cx="28285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20000" y="3660480"/>
            <a:ext cx="28285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B0897-AC7E-4148-A331-9B0D09638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1E1A0-48B8-496B-8845-18150ADB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9C24E-2B83-43AA-9D3C-20D99CE4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15DFF-493A-428D-9819-9A670DF8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42872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764640"/>
            <a:ext cx="42872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6EFCC-2B12-4DF3-AD6D-AB7A449F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0C82E-36A2-4CA3-83B4-10BE8092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31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4739F-90A4-4B5B-A733-A067B0B0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764640"/>
            <a:ext cx="42872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9280" y="366048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EBBDA-1A3F-4C0E-863B-23365505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F64C7-AA45-4E7A-B01B-5A661B2A7A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42872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76464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366048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50759-0B35-4B2E-9E09-099B57B5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76464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9280" y="3660480"/>
            <a:ext cx="87854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1DEE1-C5C8-4B98-89B5-6D1BF8D3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9280" y="3660480"/>
            <a:ext cx="87854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F051E-94CF-4CC7-9455-C6A17E84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76464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9280" y="366048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366048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C8D6B-9820-47E4-831F-0A5FB460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28285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9640" y="764640"/>
            <a:ext cx="28285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0000" y="764640"/>
            <a:ext cx="28285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9280" y="3660480"/>
            <a:ext cx="28285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9640" y="3660480"/>
            <a:ext cx="28285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0000" y="3660480"/>
            <a:ext cx="28285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85DAA-5E9B-43BD-A1F7-EC3F3CE8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03395-14A8-4AF9-92B4-179ECAD88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42872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440" y="764640"/>
            <a:ext cx="42872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714A1-7D42-474A-8617-BCA9ACBB26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12E7F-FA1D-4944-9E8A-7578EAD72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31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A91CD-3E86-4A52-8354-69114E4E7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764640"/>
            <a:ext cx="42872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79280" y="366048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6F95D-037A-4C7E-97DB-CB7C078BE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42872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76464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440" y="366048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72CDF-EAE7-4868-8135-59B88FA9F2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76464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9280" y="3660480"/>
            <a:ext cx="87854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01795-D65C-40DC-8A34-260E876A2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042920" y="6524640"/>
            <a:ext cx="70581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72000" y="6524640"/>
            <a:ext cx="792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EFAF-649B-4584-9808-6C2B8BD3C27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2555640" y="6244920"/>
            <a:ext cx="4103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8A14-6AB8-462B-9720-E7092B1AF82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struzioneveneto.it/orientamento" TargetMode="External"/><Relationship Id="rId2" Type="http://schemas.openxmlformats.org/officeDocument/2006/relationships/hyperlink" Target="http://www.istruzioneveneto.it/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916280"/>
            <a:ext cx="8207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Il ruolo della Delivery Unit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per la promozione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dei CTS e dei Dipartiment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4941720"/>
            <a:ext cx="7848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rento, 13 april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4869000"/>
            <a:ext cx="79246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924360" y="620640"/>
            <a:ext cx="1152360" cy="107784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5796000" y="620640"/>
            <a:ext cx="1944720" cy="1008000"/>
            <a:chOff x="5796000" y="620640"/>
            <a:chExt cx="1944720" cy="1008000"/>
          </a:xfrm>
        </p:grpSpPr>
        <p:sp>
          <p:nvSpPr>
            <p:cNvPr id="86" name=""/>
            <p:cNvSpPr/>
            <p:nvPr/>
          </p:nvSpPr>
          <p:spPr>
            <a:xfrm>
              <a:off x="5796000" y="620640"/>
              <a:ext cx="216000" cy="100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72360" y="620640"/>
              <a:ext cx="215640" cy="1008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59640" y="620640"/>
              <a:ext cx="216000" cy="1008000"/>
            </a:xfrm>
            <a:prstGeom prst="rect">
              <a:avLst/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48360" y="620640"/>
              <a:ext cx="216000" cy="10080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36000" y="620640"/>
              <a:ext cx="215640" cy="1008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24720" y="620640"/>
              <a:ext cx="216000" cy="10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84720" y="620640"/>
              <a:ext cx="216000" cy="1008000"/>
            </a:xfrm>
            <a:prstGeom prst="rect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403280" y="620640"/>
            <a:ext cx="1944720" cy="1008000"/>
            <a:chOff x="1403280" y="620640"/>
            <a:chExt cx="1944720" cy="1008000"/>
          </a:xfrm>
        </p:grpSpPr>
        <p:sp>
          <p:nvSpPr>
            <p:cNvPr id="94" name=""/>
            <p:cNvSpPr/>
            <p:nvPr/>
          </p:nvSpPr>
          <p:spPr>
            <a:xfrm flipH="1">
              <a:off x="3132000" y="620640"/>
              <a:ext cx="216000" cy="100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555640" y="620640"/>
              <a:ext cx="216000" cy="1008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2268360" y="620640"/>
              <a:ext cx="216000" cy="1008000"/>
            </a:xfrm>
            <a:prstGeom prst="rect">
              <a:avLst/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979280" y="620640"/>
              <a:ext cx="215640" cy="10080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1692000" y="620640"/>
              <a:ext cx="216000" cy="1008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403280" y="620640"/>
              <a:ext cx="216000" cy="10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842920" y="620640"/>
              <a:ext cx="215640" cy="1008000"/>
            </a:xfrm>
            <a:prstGeom prst="rect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2000" y="4413240"/>
            <a:ext cx="2800440" cy="36828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istruzioneveneto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C5AED-A929-4649-B2F7-B2563F706E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Punti del Protocol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Progettare, attuare e documentare forme di ricerca-azione che consentano 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ssare da una prassi didattica basata su programmi configurati come elenco di contenuti, allo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sviluppo di competenze certificabili e spendibil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el mercato del lavoro,come richiesto dall'Unione Europe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re gli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esiti degli apprendimenti attes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agli allievi a conclusione del percorso di studio in conoscenze,abilità, competenz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viare, nel contesto del Piano dell'offerta Formativa dell'Istituto, la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progettazione didattica per competenze e sostenere il percorso verso la loro formale certific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20A1F-9516-4027-AE19-080F5D0F61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5680" y="-360"/>
            <a:ext cx="8697960" cy="6793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La Delivery in Veneto - il modello organizzativo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ll’Unità regionale di proget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Multilivello</a:t>
            </a: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Cabina di regia regional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USRV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con competenze differenziate (Qualità, Apprendimenti, Alternanza scuola - lavoro, Dimensione europea, Orientamento…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Confindustria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(Rapporti con il mondo del lavoro, Orientamento, Laboratorialità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Regione del Veneto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(Istruzione; Formazione; Orientamento e Lavor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ANSAS Veneto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(supporto su richiesta delle scuo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Dirigenti scolastici riconosciuti sul territorio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– afferenti ai diversi indirizzi e specializzazioni; capaci di creare Reti provinciali o interprovincial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B5FB5-458E-449A-A43C-9750046687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Delivery in Veneto - il modello organizzativo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ll’Unità regionale di proget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85440" cy="5256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Decentrato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sul territor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ti o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ttogruppi coordinati dai Dirigenti UST e/o dai Ds stessi (v. risorse disponibil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Rivolto ad un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governance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 richiede condivisione, partecipazione attiva, interazione frequente, monitoraggio periodico, soddisfacimento dei bisogni, sussidiariet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spirato ad un approccio d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ist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livery costituita sia per gli Istituti Tecnici (maggio 2009) che per i Licei e per gli Istituti Professionali (settembre 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9BC8A-F666-4A43-A94E-BCCE62EDCD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4908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Delivery in Veneto - il modello organizzativo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ll’Unità regionale di proget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257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 A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costituzione di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te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tte a preparare l’azione delle scuole sul territo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’attivazione di specifich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nferenze di serviz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promozione di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minari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tivi/formativ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’elaborazione di specifici punti di attenzione per ciascun ordine di scuol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l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“mandato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promozione e il sostegno all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Reti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ritoria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’attenzione alla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munic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predisposizione di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ask-forse territoria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predisposizione di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trumenti sul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monitoraggi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er accompagnare i processi di ricerca delle scuole auton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D0EFD-6C11-43E1-99C8-7F425F0768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5680" y="-360"/>
            <a:ext cx="8697960" cy="6793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4. La Delivery in Veneto – IL SUPPORTO (Formazione e Comunicazion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riunioni regionali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analisi documentale, definizione dei compiti e della struttura organizzativa di volta in volta ritenuta più ido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intreccio tra le Conferenze di servizio regionali e i gruppi di lavoro (a rete) attivati sul terri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I protagonis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i Dirigenti scolastici; i Docenti; le realtà territor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Le tematich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l’evoluzione normativa del Riordino; la sua interpretazione; lo studio dei bisogni regionali; l’innovazione e la sua declinazione sul terri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li strumen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la piattaforma dedicata: 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struzioneveneto.it/orient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i siti di dialogo: ambienti interattivi (moodle) distinti per i 3 ordini di scuola) http://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www.riformainveneto.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lo sportello unico -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i="1" lang="it-IT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struzioneveneto.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lo spazio per la raccolta della ricerca in tema di didattica per competenze: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http://www.piazzadellecompetenze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A2714-BB88-4279-8361-985FE9A93B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Delivery in Veneto - LE REALIZZAZIO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I CTS 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(con evidenza negli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Istituti Tecnici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e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Professionali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e per i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6 ITS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I Dipartimenti disciplinari e pluridisciplinari: 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organizzati per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discipline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, per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assi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culturali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(biennio), per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aree di specializzazione o indirizzi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(trienn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La ricerca sulle competenz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99"/>
                </a:solidFill>
                <a:latin typeface="Arial"/>
              </a:rPr>
              <a:t>7 </a:t>
            </a:r>
            <a:r>
              <a:rPr b="1" lang="it-IT" sz="2200" spc="-1" strike="noStrike">
                <a:solidFill>
                  <a:srgbClr val="333399"/>
                </a:solidFill>
                <a:latin typeface="Arial"/>
              </a:rPr>
              <a:t>macroreti</a:t>
            </a:r>
            <a:r>
              <a:rPr b="0" lang="it-IT" sz="2200" spc="-1" strike="noStrike">
                <a:solidFill>
                  <a:srgbClr val="333399"/>
                </a:solidFill>
                <a:latin typeface="Arial"/>
              </a:rPr>
              <a:t>: oltre 500 docenti; 150 tra Istituti Tecnici, Licei, Ist. Prof.li, IeFP, Enti territoria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99"/>
                </a:solidFill>
                <a:latin typeface="Arial"/>
              </a:rPr>
              <a:t>Le rubriche, i Profili, la certificazione per il bien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99"/>
                </a:solidFill>
                <a:latin typeface="Arial"/>
              </a:rPr>
              <a:t>La valutazione: le Unità di Apprendimento, le “Prove Esperte”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99"/>
                </a:solidFill>
                <a:latin typeface="Arial"/>
              </a:rPr>
              <a:t>La validazione degli strume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La Sperimentazione per le Scienze integ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99"/>
                </a:solidFill>
                <a:latin typeface="Arial"/>
              </a:rPr>
              <a:t>(il Laboratorio sull’ambiente di apprendimento; i Progetti degli studenti per Scienza dei materiali; la Robotica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La didattica laboratoriale </a:t>
            </a:r>
            <a:r>
              <a:rPr b="0" lang="it-IT" sz="2200" spc="-1" strike="noStrike">
                <a:solidFill>
                  <a:srgbClr val="333399"/>
                </a:solidFill>
                <a:latin typeface="Arial"/>
              </a:rPr>
              <a:t>(l’Alternanza scuola-lavoro, le progettualità delle scuo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Gli indicatori di Qualità dei processi di innov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28EFA-47B7-4417-BB90-A7D3DD162C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740880"/>
            <a:ext cx="8785440" cy="5567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IL MONITORAGGIO: CTS tra i punti di attenzione percepiti – valore med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7416720" cy="5076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69800" y="3625920"/>
            <a:ext cx="935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77800" y="3699000"/>
            <a:ext cx="604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7740720" y="364500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67640" y="55897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aggio USRV Novembr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9A28E-3903-4DD7-9F37-D0DA2708C8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679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ricerca sui CTS: la composi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640720" cy="5256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Interna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: fatte salve le specificità delle singole scuole e indirizz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i suggerisce un numero tra i 10 e 12, con minimi scarti a seconda di grandezza e complessit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 docenti che ne fanno parte dovrebbero preferibilmente avere funzioni di responsabilità e coordina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 docenti dovrebbero essere individuati dal Collegio all’interno dell’area di specializzazione o dell’Indirizzo o per funzioni strumenta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er gli ISISS molto eterogenei (es. Licei+Tecnici) può esserci un Comitato unico, con un rappresentante per ordine di scuola, articolato poi in sottocommiss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9C4E7-3C4D-4A3E-8F17-6DFE1B4F37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ricerca sui CTS: la composi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759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Esterna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previa presentazione del curriculu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nti qualificati delle Associazioni di categoria, imprese, ordini professiona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 rappresentante degli Enti territoriali compresi eventuali Enti di form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osizione variabile con componenti permanenti (interni e territorio) e non permanenti (Università, Centri di ricerca, Uffici studi). Questi ultimi hanno il compito di offrire contributi sulle tendenze dell’innovazione, della ricerca, del mercato, in funzione delle scelte form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amente alle rappresentanze politiche (es. Assessori), fatta salva la libertà della scuola, si sottolinea la partecipazione in veste tecnico-scientifica operativ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229360"/>
            <a:ext cx="8496360" cy="1067400"/>
          </a:xfrm>
          <a:prstGeom prst="rect">
            <a:avLst/>
          </a:prstGeom>
          <a:solidFill>
            <a:srgbClr val="ccd4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A - L’Amministratore locale potrebbe intervenire con la veste di membro non permanente, qualora si tratti di offerta formativa nel territorio o di dotazioni a carico dell’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E5DAD-EEFB-47E0-9178-8328FB14DF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796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ricerca sui CTS: il livello provincia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Possibili CTS di Re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58560" y="1341000"/>
            <a:ext cx="8785080" cy="4969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raccoglie le forze economiche presenti sul territori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ociazioni di imprenditori industriali e artigia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ociazioni sindaca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ese pubbliche di Serviz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i di ricerca come le Università o le Fonda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i pubblici di gestione delle dinamiche del lavoro (assessorato o Camera di Commercio, in aggiunta ai rappresentanti degli Istituti scolastici pubblici interessat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tudia e delinea corsi o indirizzi ritenuti necessari a soddisfare le esigenze del territo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51960" y="5805360"/>
            <a:ext cx="1802160" cy="368280"/>
          </a:xfrm>
          <a:prstGeom prst="rect">
            <a:avLst/>
          </a:prstGeom>
          <a:solidFill>
            <a:srgbClr val="ccd4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Ve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E8618-667D-4716-8448-051D125B4B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 cosa fa la Delive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nalizz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l contesto per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valorizza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casioni favorevo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sog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disegn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n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modello organizzativ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in un’ottica evolu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dica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emp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condividere problem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proposte di lavo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a nella progettazione, con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mplementazion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forma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dispon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trument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il più possibile vari - atti a sorreggere le strategie di lavo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monitora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percors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modo costante e restituisce a tut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dispone momenti di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onitoraggi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verific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qual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risultat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E4AF7-C788-48B7-9970-0753917835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679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ricerca su: CTS e Piano dell’offerta formativ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l CTS esprime parer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ir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coerenza tra curricoli ed esigenze del mercato del lavoro, sulla base di una rilevazione dei bisogni professionali e formativi del territorio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(v. Dipartiment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i elementi di flessibilità previsti dai Regolame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occasioni di formazione tecnica per i docenti dalle aziende e nelle azien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l rinnovo e l’acquisto di attrezzature per i laborato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l CTS favoris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’utilizzo delle strutture territoriali (aziende e non) per   l’aggiornamento dei docenti e per l’attività degli stude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progetti di ricerca e svilup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rapporti con le Associazioni datoria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676A8-D87A-4FC2-BC80-A45AE346F0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691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ricerca sui CTS: il livello territoriale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tituto e/o indirizz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4608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rmula parer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 modo autono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 Dirigente, al Collegio e alle sue articolazioni e al Consiglio di Istitu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dica strumenti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organizzativ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i a raggiungere le finalità su cui esprime pare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romuove 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vorisce occasioni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di incontro e scambi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 docenti delle scuole e rappresentanti qualificati delle Università, del mondo del lavoro e delle azien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71DEC-CCB0-424B-851E-5228038EC3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79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ricerca su CTS e attività scuola-territor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l CTS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esprime pareri, esplicitando valutazioni e linee di indirizz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e fornendo supporto) riguardan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lternanz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cuola lavo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i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st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tirocin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mativ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orientament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entrata (anche rispetto alla formazione dei docenti della scuola sec. di 1° grad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usc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FE719-1CF8-4E2F-B050-C56D7945E3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blicizzazione e condivisione dell’attività del CTS – centralità/criticità della comunic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attraverso i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docenti interni al 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designati nel CTS in qualità di “esperti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riportano nel Collegio e nei Dipartimenti gli orientamenti e i pareri espressi dal CTS, per favorirne il recepi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attraverso i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verbali degli incontri</a:t>
            </a: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 del 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ubblici e diffusi come quelli degli OO.CC. (eventualmente anche con una bacheca dedica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attraverso specifiche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occasioni ed eventi</a:t>
            </a: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(rivolti anche alle famigli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473FC-2480-4413-9B57-2492BB643A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ricerca sui CTS: gli Indicatori di qualità del funzionamen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n. di riunioni durante l’an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% di presenze per ogni incont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n. di richieste di parere richieste al 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n. di pareri e suggerimenti accolti dagli OOCC (% suggerimenti raccolti su suggerimenti dat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n. contatti esterni procurati alla scuola (occasioni di formazione; intese con aziende, ec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ercezione dei docenti sulla qualità del lavoro del CTS (indagine strutturata, ad es. con questionario – v. SIQus - polo Qualità di V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resenza di obiettivi di lavoro autonomi per il 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resenza di occasioni di monitoraggio e verifica della propria azione (incontri dedicati alla revisione, strumenti di verifica e osservazione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EA700-FA2F-496B-9039-749F88E7A76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79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CTS: CRITICITÀ   e   RISOR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8560" y="980640"/>
            <a:ext cx="8785080" cy="554364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RITICIT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incere alcune “diffidenze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i confronti della supposta “ingerenza” del mondo es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struire un orizzonte di sen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cepibile dal numero più ampio possibile dei docenti e del person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rovare spazi tempora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i contatti, gli incontri, le riflessioni, la documentazi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cegliere le priorit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 perseguire in coerenza con il contesto e con le specificità dell’Istit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RISO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L’aiuto del sistema imprenditori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l gruppo di lavoro di Confindustr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La solidarietà delle Re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La formazione e la rice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563C6-EA8D-4DA1-81FD-CC54A103111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Dipartimenti tra i punti di attenzione percepi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79280" y="764640"/>
            <a:ext cx="8785440" cy="5543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7416720" cy="5077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24000" y="4724280"/>
            <a:ext cx="934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03280" y="3573360"/>
            <a:ext cx="604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812000" y="472428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47640" y="4724280"/>
            <a:ext cx="6048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67640" y="5661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aggio USRV Novembr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383DE-B4FE-4B79-A800-AFD8A35ACA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partimenti. Gli elementi della ricerc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o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nodo critic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er l’attuazione degli aspet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novazione didattic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cessità di una “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rivisitazio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” rispetto al passato: ora il problema si pone in termini di passaggio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al Profilo al curricol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NTI FOCAL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Il ruolo professionale e cultur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Le fun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La composizione e le articola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C41C6-E2B9-445B-B560-B8E150E2441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partiment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La premess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l processo di insegnamento apprendimento deve la sua specificità al fatto che esso si snoda nella dialettica tra  </a:t>
            </a: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dimensione collettiva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, che avviene in un contesto sociale e </a:t>
            </a: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dimensione persona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i tratta di una impresa collettiva nella quale è coinvolta una pluralità di soggetti: i docenti, gli studenti, la classe, le famiglie….Solo se questa pluralità di soggetti è capace di fare «impresa», di fare squadra, il processo di insegnamento avrà come esito la pro-mo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e gli input (gli elementi in entrata) si collocano in una dimensione collettiva, l’output (la formazione, la crescita, l’apprendimento) rimane ancorato alla persona, alla sua storia, ai suoi stili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Questa dialettica collettivo/personale vale per lo studente, vale per il docente, attori co-protagonisti del </a:t>
            </a: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continuum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dell’insegnamento-apprendi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86631-24AD-4E97-928A-821587C6A68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Dipartimenti. Il ruolo professionale e culturale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1134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42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Dipartimento, come articolazione del CD, prima di tut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È il luogo della professionalità docente, il luogo in cui si pongono le condizioni dell’esercizio della professionalit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ovv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luogo del </a:t>
            </a:r>
            <a:r>
              <a:rPr b="0" i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confronto e della condivis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della </a:t>
            </a:r>
            <a:r>
              <a:rPr b="0" i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comunicazione intersoggettiv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me garanzia della fondatezza scientifica delle scelte culturali e metodolog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</a:t>
            </a:r>
            <a:r>
              <a:rPr b="0" i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luogo di produzione cultura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il dipartimento costruisce il repertorio di strumenti (concettuali, operativi, didattici, valutativi…) a cui il Consiglio di Classe e il singolo docente ricorrono nella fase della progettazione didattico - educativa  e di realizzazione del curricolo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9AA71-8655-4633-820D-A36B1F36DB1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697600" cy="679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1. Prima della Delivery… il contes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Analisi dello “Stato della scuola secondaria di 2° grado in Veneto” con particolare riguardo agli Istituti Tecnici e Professionali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87"/>
              </a:spcBef>
              <a:spcAft>
                <a:spcPts val="4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sostanziale </a:t>
            </a:r>
            <a:r>
              <a:rPr b="1" lang="it-IT" sz="2100" spc="-1" strike="noStrike">
                <a:solidFill>
                  <a:srgbClr val="ff0000"/>
                </a:solidFill>
                <a:latin typeface="Arial"/>
              </a:rPr>
              <a:t>appeal dei Tecnici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 sostenuti da una richiesta territoriale da parte delle imprese che assorbono tutti i diplomat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87"/>
              </a:spcBef>
              <a:spcAft>
                <a:spcPts val="476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0000"/>
                </a:solidFill>
                <a:latin typeface="Arial"/>
              </a:rPr>
              <a:t>dialogo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 dell’Istruzione Professionale con il sistema della Formazione regionale (v. qualifica regionale; percorsi triennali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87"/>
              </a:spcBef>
              <a:spcAft>
                <a:spcPts val="4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presenza di forti “spezzoni” di </a:t>
            </a:r>
            <a:r>
              <a:rPr b="1" lang="it-IT" sz="2100" spc="-1" strike="noStrike">
                <a:solidFill>
                  <a:srgbClr val="ff0000"/>
                </a:solidFill>
                <a:latin typeface="Arial"/>
              </a:rPr>
              <a:t>misure innovative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  già presenti in un numero considerevole di Istituti (es. sperimentazioni assistite, Dipartimenti disciplinari; stage, tirocini, Terza area, pluriennali esperienze di alternanza scuola-lavoro…); MA 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situazione disomogenea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 sul territor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87"/>
              </a:spcBef>
              <a:spcAft>
                <a:spcPts val="4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consolidata </a:t>
            </a:r>
            <a:r>
              <a:rPr b="1" lang="it-IT" sz="2100" spc="-1" strike="noStrike">
                <a:solidFill>
                  <a:srgbClr val="ff0000"/>
                </a:solidFill>
                <a:latin typeface="Arial"/>
              </a:rPr>
              <a:t>capacità progettuale e realizzativa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 nei rapporti con il mondo del lavoro (Confindustria, Confartigianato, Camere di Commercio…) e con l’Universit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87"/>
              </a:spcBef>
              <a:spcAft>
                <a:spcPts val="4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alta </a:t>
            </a:r>
            <a:r>
              <a:rPr b="1" lang="it-IT" sz="2100" spc="-1" strike="noStrike">
                <a:solidFill>
                  <a:srgbClr val="ff0000"/>
                </a:solidFill>
                <a:latin typeface="Arial"/>
              </a:rPr>
              <a:t>richiesta di rinnovamento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 e di “sperimentazione” delle principali innovazioni previste dal Riordino da parte delle scuo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87"/>
              </a:spcBef>
              <a:spcAft>
                <a:spcPts val="476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0000"/>
                </a:solidFill>
                <a:latin typeface="Arial"/>
              </a:rPr>
              <a:t>successo</a:t>
            </a:r>
            <a:r>
              <a:rPr b="0" lang="it-IT" sz="19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registrato nell’ambito del Piano Lauree Scientifiche supportato, oltre che dal MIUR e da Confindustria, anche dalla Regione del Vene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075D0-224B-42F9-97CF-329C7AC1F2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partiment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Il ruolo professionale e culturale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785440" cy="5904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È luogo dell’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lisi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sciplina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qui, nel confronto e nella condivisione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studia in che modo la disciplin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sosteng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o studente nella acquisizione di conoscenze, nello sviluppo di abilità e competen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vviene la tras-formazione dei saperi in conoscenze; la disciplina viene ri-pensata e riorganizzata dal punto di vista dello studente che, appropriandosi di quei saperi, acquisisce conoscenze e abilit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studiano e si realizzano percorsi di motivazione, sostegno e recupero per gli studenti in difficoltà o percorsi per l’eccellen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studiano e si realizzano modalità di accompagnamento per i tirocinanti, per i docenti neo-immessi in ruolo o meno esper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individuano le caratteristiche fondanti dell’Indirizzo di studio e le attività progettuali pluridisciplinari che lo contraddistingu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75A63-94AF-4C6F-AD0B-1E0855D2473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partimen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le funzio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688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Redige la progettazione di Dipartimento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articolata per conoscenze, abilità, competen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Concorda sui criteri di valutazion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, sulle forme e sulle tipologie di verif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Si confronta sulla tipologia, e sulle caratteristiche degli strumenti</a:t>
            </a:r>
            <a:r>
              <a:rPr b="0" lang="it-IT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(libri di testo, laboratori, nuove tecnologie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Analizza i risultati di apprendimento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; studia le cause degli insuccessi, propone le coerenti forme di accompagnamento e di recupero per gli stude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Progetta percorsi di integrazione dei saperi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nel confronto a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Arial"/>
              </a:rPr>
              <a:t>livello di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Arial"/>
              </a:rPr>
              <a:t>asse cultural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o area e a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Arial"/>
              </a:rPr>
              <a:t>livello di indirizzo o di specializzazion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(es. Piano Lauree scientifiche, Poseidon, Alternanza scuola lavoro,…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romuove e/o progetta </a:t>
            </a: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percorsi di autoaggiornamento / aggiorna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Si fa portatore del patrimonio pedagogico-didattico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della “comunità scolastica” – identità dell’Istitu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445BE-E9AD-4650-916F-8EF66D851CB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partimen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la composi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l Dipartimento si configur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</a:rPr>
              <a:t>in termini disciplinar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è composto dai docenti titolari della medesima o delle medesime discip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</a:rPr>
              <a:t>in termini di asse cultura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è composto dai docenti che afferiscono ai quattro assi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oppure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</a:rPr>
              <a:t>in termini di are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in questo caso il Dipartimento è composto in maniera flessibile da docenti che afferiscono nello stesso tempo all’area della comunicazione e a quella metodologica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uesta flessibilità implica la reale assunzione di punti di vista differenti, quello della disciplina per sé e quello della disciplina in un altro contest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</a:rPr>
              <a:t>In termini di indirizz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me luogo della specificità dei Licei o </a:t>
            </a: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</a:rPr>
              <a:t>in termini di specializzazio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me luogo della specificità dei Tecnici e dei Professiona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8A687-A6E6-4E82-A94D-343EBA9FEAB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partimen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la flessibilità organizzativa e i suoi compiti - verso la “comunità di pratich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990033"/>
                </a:solidFill>
                <a:uFillTx/>
                <a:latin typeface="Arial"/>
              </a:rPr>
              <a:t>Il primo livello  (DISCIPLINARE)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onda e costruisce le condizioni del lavoro degli altri: individuazione delle conoscenze e delle abilità disciplinari da curare, metodi, strumenti, etc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990033"/>
                </a:solidFill>
                <a:uFillTx/>
                <a:latin typeface="Arial"/>
              </a:rPr>
              <a:t>Nel secondo e nel terzo livello (ASSE O AREA CULTURALE; INDIRIZZO o AREA DI SPECIALIZZAZION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i progettano, alla luce del profilo dello studente in uscita, 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i percorsi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finalizzati alla promozione, sviluppo, consolidamento, valutazione delle competen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i mettono in atto dispositivi volti a far emergere, accanto alle competenze acquisite in ambiente formale, </a:t>
            </a:r>
            <a:r>
              <a:rPr b="1" i="1" lang="it-IT" sz="2200" spc="-1" strike="noStrike" u="sng">
                <a:solidFill>
                  <a:srgbClr val="000000"/>
                </a:solidFill>
                <a:uFillTx/>
                <a:latin typeface="Arial"/>
              </a:rPr>
              <a:t>le competenze acquisite in ambiente non formale e informal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anche in funzione della certificazione da rilasciare al conseguimento dell’obbligo scolastico e del titolo finale di stud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AFB9D-C150-43A9-81DA-517C5C1F504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partimenti: difficoltà e risor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990033"/>
                </a:solidFill>
                <a:uFillTx/>
                <a:latin typeface="Arial"/>
              </a:rPr>
              <a:t>La difficoltà 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Mettersi in discuss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uperare il livello del “disciplinare”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avorare nell’ottica di una didattica orientata alla promozione delle compete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Ri-trovare le connessioni e gli intrecci tra le articolazioni della collegialità (CD, Cd’I, Cdcl..) e i nuovi interlocutori (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990033"/>
                </a:solidFill>
                <a:uFillTx/>
                <a:latin typeface="Arial"/>
              </a:rPr>
              <a:t>Le ris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Il patrimonio pedagogico-didattico di ogni comunità scola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a form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a disponibilità alla ricerca didattico-educ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A3D50-6B04-49C7-81BE-850AF8BFF2B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18920" y="-360"/>
            <a:ext cx="7078680" cy="6793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ee di svilupp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835280" y="907560"/>
            <a:ext cx="7129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LA RICERCA CONTINUA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avorire ulteriormente gli </a:t>
            </a: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accordi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tra scuola e territorio,  valorizzando la ricchezza dell’incontro tra approcci differenti e nel contempo l’identità della scu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romuovere l’attenzione della scuola verso i temi dello sviluppo della conoscenza, anche ai fini dell’</a:t>
            </a: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orientamento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e dell’</a:t>
            </a: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occupabilità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dei giova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ncoraggiare i docenti a </a:t>
            </a: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rivedere in modo sostanzial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l’impostazione didattica tradizionale centrata sul programm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curare la </a:t>
            </a: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diffusion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dell’innovazione, promuovendo il consolidamento delle Re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upportare la </a:t>
            </a: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formazione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 la raccolta </a:t>
            </a:r>
            <a:r>
              <a:rPr b="0" i="1" lang="it-IT" sz="2200" spc="-1" strike="noStrike">
                <a:solidFill>
                  <a:srgbClr val="000000"/>
                </a:solidFill>
                <a:latin typeface="Arial"/>
              </a:rPr>
              <a:t>in itiner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della </a:t>
            </a: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documentazion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sulle sperimenta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ostenere  il dibattito, implementare </a:t>
            </a: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l’autonomia di ricerca e svilup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730920" y="115920"/>
            <a:ext cx="1944720" cy="504720"/>
            <a:chOff x="6730920" y="115920"/>
            <a:chExt cx="1944720" cy="504720"/>
          </a:xfrm>
        </p:grpSpPr>
        <p:sp>
          <p:nvSpPr>
            <p:cNvPr id="208" name=""/>
            <p:cNvSpPr/>
            <p:nvPr/>
          </p:nvSpPr>
          <p:spPr>
            <a:xfrm>
              <a:off x="6730920" y="115920"/>
              <a:ext cx="216000" cy="504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07280" y="115920"/>
              <a:ext cx="215640" cy="504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94560" y="115920"/>
              <a:ext cx="216000" cy="504720"/>
            </a:xfrm>
            <a:prstGeom prst="rect">
              <a:avLst/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883280" y="115920"/>
              <a:ext cx="216000" cy="504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170920" y="115920"/>
              <a:ext cx="215640" cy="504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459640" y="115920"/>
              <a:ext cx="216000" cy="504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019640" y="115920"/>
              <a:ext cx="216000" cy="504720"/>
            </a:xfrm>
            <a:prstGeom prst="rect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641840" y="115920"/>
            <a:ext cx="1944720" cy="504720"/>
            <a:chOff x="4641840" y="115920"/>
            <a:chExt cx="1944720" cy="504720"/>
          </a:xfrm>
        </p:grpSpPr>
        <p:sp>
          <p:nvSpPr>
            <p:cNvPr id="216" name=""/>
            <p:cNvSpPr/>
            <p:nvPr/>
          </p:nvSpPr>
          <p:spPr>
            <a:xfrm>
              <a:off x="4641840" y="115920"/>
              <a:ext cx="216000" cy="504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18200" y="115920"/>
              <a:ext cx="215640" cy="504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05480" y="115920"/>
              <a:ext cx="216000" cy="504720"/>
            </a:xfrm>
            <a:prstGeom prst="rect">
              <a:avLst/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94200" y="115920"/>
              <a:ext cx="216000" cy="504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81840" y="115920"/>
              <a:ext cx="215640" cy="504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70560" y="115920"/>
              <a:ext cx="216000" cy="504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30560" y="115920"/>
              <a:ext cx="216000" cy="504720"/>
            </a:xfrm>
            <a:prstGeom prst="rect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 flipH="1">
            <a:off x="-360" y="0"/>
            <a:ext cx="160020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332000" cy="136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3B4B2-E346-4B58-89E1-64F79980755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rima della Delivery… il contes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87"/>
              </a:spcBef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Analisi delle possibili risorse presenti sul territorio in termini di alleanze e compartecipazioni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spcAft>
                <a:spcPts val="587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0000"/>
                </a:solidFill>
                <a:latin typeface="Arial"/>
              </a:rPr>
              <a:t>La Regione del Veneto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– impegno pluriennale in tema di Orientamento (Reti territoriali), Saperi scientifici, Terza area, Alternanza scuola-lavoro, Protocollo per il riconoscimento dei percorsi di istruzione nei passaggi alla formazione, progettualità rivolta alla scuola inclusiva (alunni stranieri, disabilità, difficoltà di apprendimento, etc..) e al tema della Qualità (Premio Qualità,OCSE Pisa, Dimensione europea, progetti culturali, etc.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87"/>
              </a:spcBef>
              <a:spcAft>
                <a:spcPts val="587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0000"/>
                </a:solidFill>
                <a:latin typeface="Arial"/>
              </a:rPr>
              <a:t>Confindustria Veneto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Orientamento, Lauree scientifiche, apertura laboratori delle aziende, collaborazione progettuale con le scuole, etc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87"/>
              </a:spcBef>
              <a:spcAft>
                <a:spcPts val="587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0000"/>
                </a:solidFill>
                <a:latin typeface="Arial"/>
              </a:rPr>
              <a:t>Università</a:t>
            </a:r>
            <a:r>
              <a:rPr b="1" lang="it-IT" sz="19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– v. Protocolli d’intesa concernenti l’Orientamento, la Formazione  e il Piano Lauree scientifich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87"/>
              </a:spcBef>
              <a:spcAft>
                <a:spcPts val="587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0000"/>
                </a:solidFill>
                <a:latin typeface="Arial"/>
              </a:rPr>
              <a:t>Associazioni disciplinari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– v. Piano ISS, Piano Poseidon, CLIL, etc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87"/>
              </a:spcBef>
              <a:spcAft>
                <a:spcPts val="587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0000"/>
                </a:solidFill>
                <a:latin typeface="Arial"/>
              </a:rPr>
              <a:t>Esteso sistema di Reti di scuole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 - aperte alle collaborazioni con il territor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87"/>
              </a:spcBef>
              <a:spcAft>
                <a:spcPts val="587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0000"/>
                </a:solidFill>
                <a:latin typeface="Arial"/>
              </a:rPr>
              <a:t>Expertise del personale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  - utilizzato per i compiti a sostegno dell’autonom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FB840-A9E0-410C-9CB0-F67E9A337A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 la Delivery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Volontà d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valorizzar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l fondamentale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PATRIMO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 conoscenze e  competenz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zionali alla progettazione didattico-educativ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serie di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ESPERIENZE E RICERCH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ndot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 numerosi Istituti Tecnici Industriali d'eccellenza del Vene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sinergia con Confindustria Vene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dare risposte concre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niugando mandato istituzionale e bisog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05640-D0A5-490C-BE4F-BFFAACC7D4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 la Delivery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Nasce il Protocollo d’intesa (3 aprile 2009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ema di politica regionale scolastica per la realizzazione del Piano per l’innovazione dell’Istruzione Tecn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artire dall’articolato sistema di relazioni con la Regione Veneto, con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l sistema economico produttiv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l territorio su cui insiste la scuola veneta e con le associazioni datoriali e di catego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inalità propulsiv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l cambiamento attraverso un modello rinnovato di governance tale da conferire slancio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’innov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rato ad ottener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ivelli di competenz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ispondenti alle nuove necessità culturali e socio-economiche di un tessuto produttivo che avverte l’esigenza di innovare per mantenere i livelli di produzione e le possibilità occupaziona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88000" y="44280"/>
            <a:ext cx="14436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03640" y="44280"/>
            <a:ext cx="14472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44280"/>
            <a:ext cx="14436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35640" y="44280"/>
            <a:ext cx="14436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51640" y="44280"/>
            <a:ext cx="14436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44280"/>
            <a:ext cx="14472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84720" y="44280"/>
            <a:ext cx="14472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00720" y="44280"/>
            <a:ext cx="14436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16720" y="44280"/>
            <a:ext cx="14436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32720" y="44280"/>
            <a:ext cx="14436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48360" y="44280"/>
            <a:ext cx="14472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64360" y="44280"/>
            <a:ext cx="14436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80360" y="44280"/>
            <a:ext cx="14436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96360" y="44280"/>
            <a:ext cx="14436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12000" y="44280"/>
            <a:ext cx="14472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028000" y="44280"/>
            <a:ext cx="14436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44000" y="44280"/>
            <a:ext cx="14436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459640" y="44280"/>
            <a:ext cx="14472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92360" y="44280"/>
            <a:ext cx="14472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44280"/>
            <a:ext cx="14436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44280"/>
            <a:ext cx="14436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40360" y="44280"/>
            <a:ext cx="14436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56000" y="44280"/>
            <a:ext cx="14472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4280"/>
            <a:ext cx="14436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8A1DA-0CEC-4054-B14F-110C366230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ocollo d’intesa (3 aprile 200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Arial"/>
              </a:rPr>
              <a:t>obiettivo prioritario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romuovere, d'intesa con il MIUR, </a:t>
            </a:r>
            <a:r>
              <a:rPr b="1" lang="it-IT" sz="2600" spc="-1" strike="noStrike">
                <a:solidFill>
                  <a:srgbClr val="333399"/>
                </a:solidFill>
                <a:latin typeface="Arial"/>
              </a:rPr>
              <a:t>UN'AZIONE DI SOSTANZIALE MIGLIORAMENTO DELLA QUALITÀ DELL'OFFERTA FORMATIVA TERRITORIAL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ia mediante lo studio di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Arial"/>
              </a:rPr>
              <a:t>nuovi assetti ordinamentali curricola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ia attraverso forme coordinate e organiche di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Arial"/>
              </a:rPr>
              <a:t>ricerca-azione organizzativa e metodologico-didat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5C785-2B80-4754-A376-93BDAD8099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Punti del Protocol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Strutturazione del Collegio in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partimenti  (dal disciplinare al pluridisciplinare, per assi culturali, per indirizzo, per area di specializzazi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) attivare nuove ed organiche modalità di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rogettazione educ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) promuovere e sostenere l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ndivision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gli obiettivi generali e specifici – v. incentivazion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munità di pratic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) favorire la diffusione delle metodologie più efficaci a migliorare i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risultati di apprendiment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gli studenti, in particolare attraverso un utilizzo diffuso e sistematico di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ratiche laboratorial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tutte le discipline e mediante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l’alternanza scuola-lavo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) avviar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terventi sistematici di aggiornament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anche in rete, di tutto il personale della scuola, dirigente, docente e 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7821B-3F1E-4EBC-BD04-EC297458DF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Punti del Protocol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stituzione del Comitato Tecnico-Scientifico Paritetico Scuola-lavor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inalizzato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re un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apporto organico fra il momento didattico – educativo dell’attività scolastica e il mondo del lavoro e delle profession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n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ruolo di consultazione e di propos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lativamente alle modalità di innovazione coerenti con l’evoluzione del quadro normativo in tema di Istruzione Tecn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accogliere proposte 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ticolare le aree di indirizzo negli ampi spazi di FLESSIBILIT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revisti per l’assetto dell’Istruzione Tecnica, in base alle specifiche esigenze del territorio, del mondo produttivo e delle profess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57361-E33F-4025-9FD3-EAC21E8A20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05:55:40Z</dcterms:created>
  <dc:creator>Miola</dc:creator>
  <dc:description/>
  <dc:language>en-US</dc:language>
  <cp:lastModifiedBy>Utente</cp:lastModifiedBy>
  <dcterms:modified xsi:type="dcterms:W3CDTF">2011-04-10T15:45:37Z</dcterms:modified>
  <cp:revision>142</cp:revision>
  <dc:subject/>
  <dc:title>Seminario Sorrento 2011</dc:title>
</cp:coreProperties>
</file>