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355-E4E6-455F-BE00-2B294B0D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1DB-81CB-4ADD-AE92-63D7F83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C7F-9AAE-4B8D-8733-D4C0CA92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E2C-ADEA-47F9-AA14-0C96BB1A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091-C2F0-4924-8A17-0810D0AE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469-1F30-49AA-B5D7-DE9CC754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BE8-6CE5-405B-9D9C-EA59858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7B6-6374-4DBF-823F-4318402A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1C0-E63F-419B-B358-9BBAFD7A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A28-D9B6-43A0-BF57-6BAF020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4D3-CC9A-46F0-AEA8-0CD112A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1B8-08E5-4E9C-8410-EC9A0882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7176-2FAC-43E5-8CE4-1C4BF38686B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3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MITATO TECNICO SCIENTIFICO E DIPARTIME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064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Azioni all’interno dell’ITT COLO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Intervento del D.S. Prof.ssa Ester Ri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SORRENTO 13-15 April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://www.parlandosparlando.com/picture_library/varie/istituzioni/emblema_della_repubblica_italiana.jpg"/>
          <p:cNvPicPr/>
          <p:nvPr/>
        </p:nvPicPr>
        <p:blipFill>
          <a:blip r:embed="rId1"/>
          <a:stretch/>
        </p:blipFill>
        <p:spPr>
          <a:xfrm>
            <a:off x="4211640" y="476280"/>
            <a:ext cx="966960" cy="1081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755640" y="1628640"/>
            <a:ext cx="79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NISTERO DELL’ISTRUZIONE, DELL’UNIVERSITÀ E DELLA RICE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Fasi di costituzio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del 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L COMITATO TECNICO SCIENTI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nominato con provvedimento del D.S a seguito di  delibera del Collegio dei Doc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dD ne definisce ambiti, funzioni e regol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nsiglio d’Istituto ne ratifica la nasci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uo mandato ha durata limitata ed è rinnov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seguito di delibera degli Organi compe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tangolo arrotondato 1"/>
          <p:cNvSpPr/>
          <p:nvPr/>
        </p:nvSpPr>
        <p:spPr>
          <a:xfrm>
            <a:off x="2916360" y="2349360"/>
            <a:ext cx="3024000" cy="223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l C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3"/>
          <p:cNvSpPr/>
          <p:nvPr/>
        </p:nvSpPr>
        <p:spPr>
          <a:xfrm>
            <a:off x="6012000" y="4365720"/>
            <a:ext cx="2449440" cy="172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sserva la funzionalità del processo form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4"/>
          <p:cNvSpPr/>
          <p:nvPr/>
        </p:nvSpPr>
        <p:spPr>
          <a:xfrm>
            <a:off x="250920" y="1268280"/>
            <a:ext cx="2484360" cy="151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aluta e diffonde i risultati del percorso forma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5"/>
          <p:cNvSpPr/>
          <p:nvPr/>
        </p:nvSpPr>
        <p:spPr>
          <a:xfrm>
            <a:off x="755640" y="4797360"/>
            <a:ext cx="2592360" cy="172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 può avvalere dell’apporto di un  Ufficio Tec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 rot="5400000">
            <a:off x="6273360" y="3024000"/>
            <a:ext cx="792000" cy="1027080"/>
          </a:xfrm>
          <a:custGeom>
            <a:avLst/>
            <a:gdLst>
              <a:gd name="textAreaLeft" fmla="*/ 455760 w 792000"/>
              <a:gd name="textAreaRight" fmla="*/ 668520 w 792000"/>
              <a:gd name="textAreaTop" fmla="*/ 138240 h 1027080"/>
              <a:gd name="textAreaBottom" fmla="*/ 439560 h 1027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 rot="16200000">
            <a:off x="1763640" y="2996640"/>
            <a:ext cx="936360" cy="936720"/>
          </a:xfrm>
          <a:custGeom>
            <a:avLst/>
            <a:gdLst>
              <a:gd name="textAreaLeft" fmla="*/ 538560 w 936360"/>
              <a:gd name="textAreaRight" fmla="*/ 790200 w 93636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 rot="10800000">
            <a:off x="3708360" y="4869000"/>
            <a:ext cx="1008000" cy="792000"/>
          </a:xfrm>
          <a:custGeom>
            <a:avLst/>
            <a:gdLst>
              <a:gd name="textAreaLeft" fmla="*/ 579960 w 1008000"/>
              <a:gd name="textAreaRight" fmla="*/ 850680 w 1008000"/>
              <a:gd name="textAreaTop" fmla="*/ 106560 h 792000"/>
              <a:gd name="textAreaBottom" fmla="*/ 3391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4284720" y="1197000"/>
            <a:ext cx="863640" cy="998640"/>
          </a:xfrm>
          <a:custGeom>
            <a:avLst/>
            <a:gdLst>
              <a:gd name="textAreaLeft" fmla="*/ 496800 w 863640"/>
              <a:gd name="textAreaRight" fmla="*/ 729000 w 863640"/>
              <a:gd name="textAreaTop" fmla="*/ 134640 h 998640"/>
              <a:gd name="textAreaBottom" fmla="*/ 427320 h 998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084720" y="1268280"/>
            <a:ext cx="2590920" cy="143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cepis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e indicazioni provenienti dal mondo del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890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602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ZIONI DEL 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Times New Roman"/>
              </a:rPr>
              <a:t>MODALITA’ DI FUNZIONAMENTO DEL 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rticola in sottogruppi di lavoro 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riscono agli OOCC proposte di azione/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rimono pareri di rimando sulle istanze proposte dagli Organi Colleg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cordare le esigenze della scuola con quelle del mondo del lavoro individuando soluzioni pratic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RTICOLAZIONE del 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’ presieduto dal D.S  che ne predispone i lavori, ne garantisce l’efficacia, l’efficienza e la qualità gestionale-amministrati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TS si riunisce su convocazione del Presidente o su richiesta avanzata da almeno i due terzi dei componen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Dsga ha funzioni di segretario, collabora con il D.S nella predisposizione dei lavori,  stila i verbali e ne predispone la loro pubblicazione all’Albo della Scuola; provvede alla gestione amministrativ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RTICOLAZIONE DEL CTS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T C. COLO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embri di dir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igente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ttro responsabili dei Dipart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esperto scientifico-pedag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e rappresentanti del mondo dell’imprenditoria e della p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s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embri rappresentati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dente del Consiglio d’I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gli alu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l personale 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olt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seguito di un Regol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aro e funzionale i Dipartimen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trann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ire e interagire con i suggerimenti e le proposte del 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ire nella realizzazione di nuove forme organizzat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zare la progettazione formativ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cordare l’area d’istruzione generale e      l’area d’indirizzo in funzione del profilo in usci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gire con le istanze del territorio, del mondo del lavoro e le richieste dell’utenza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) Progettare in modo formativo per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 strategie didattiche condivise e valorizzare l’azione di progettazione dei docenti che programmano nell’ambito dei Consigli di Classe seguendo gli obiettivi del POF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accordare i saperi delle diverse discipline all’interno dei quattro assi culturali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ostenere la didattica laboratorial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arantire la continuità verticale e la coerenza interna del curriculu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nalzare la qualità del processo di insegnamento-apprendimento situandolo in contesti reali (CTS: alternanza scuola-lavoro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 accordi di rete tra Istituti per condividere best pra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tipulare convenzioni con gli Enti Loc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) valutare gli apprendimenti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ttuando un monitoraggio del percorso didattico -formativo attraverso la costruzione di prove oggettive di verifica con relative griglie di 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964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rlare di comitato tecnico scientifico e di dipartimenti oggi signif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708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re concretamente ambiti specifici di interazione e di ricerca/azione che si potenzino nel reciproco raccordo e non ostacolino  la comunicazione tra organismi nuovi e organismi consolidati all’interno della comunità scola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MODALITA’ DI FUNZIONAMENTO DEI DIPARTI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nominati con provvedimento del D.S. a seguito di delibere degli Organi Colleg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llegio dei docenti ne definisce ambiti funzioni e regola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nsiglio d’Istituto ne ratifica la nas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ICOLAZIONE DEI  DIPARTIME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Dipartimenti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ganismi trasversali coerenti con le aree di ricerca a cui afferiscono le discipline dei quattro ass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eduti e coordinati dal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osti da tutti i docenti a tempo determinato e indeterm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sono delegare compiti a commissioni di lavoro differenzi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perano e progettano a monte dei Consigli di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loro mandato ha durata limitata ed è rinnovabi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ito di delibera degli Organi compe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CTS  e  DIPART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Non esautorano i compiti e le fun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degli organismi storici dell’Istitu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Scolas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perché</a:t>
            </a: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IL COLLEGIO dei DOCENTI e il CONSIGLIO d’ISTIT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mantengono le loro prero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Times New Roman"/>
              </a:rPr>
              <a:t>I CONSIGLI DI 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iscono gli input dei Dipart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modulano e trasferiscono sulle classi la didattica per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vidono metodologie di lavoro, materiali didattici, prove trasversali di monitoraggio e griglie di misurazione dei risul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 buone pratiche , la comunicazione,       l’int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olamentata e condiv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nno consentito all’ITT Colombo di Roma di aderire ad un progetto finanziato dalla Regione Lazio e dal Fondo Sociale Europeo per la realizzazione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Un portale in rete che prevedeva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ealizzazione di moduli di autoapprendimento su tematiche specifiche di Discipline Turistiche Aziendali in Lingua stran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rientamento in us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incontro tra scuola e mondo dell’i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 le finalità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muovere forme di apprendimento multidisciplinari attraverso l’utilizzazione di competenze informatiche e il potenziamento dell’attività laboratori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rvirsi di diverse forme di comunicaz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vorire, per gli alunni delle classi terminali, l’incontro tra domanda e offerta di lavoro-attraverso la costruzione del curriculum vitae europeo e l’analisi di strategie efficaci per affrontare il colloquio di lavor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dividere in rete nuove metodologie di lavoro e best pra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asi operative del proge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Dirigente Scolastic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 la proposta del bando 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prime parere favorevole e incarica i docenti referenti coordinatori dei quattr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disciplinari di riferire in Collegio Doc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Colleg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va la partecipazione al bando di conc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Consiglio d’Istitu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isce la delibera del Collegio ratifica la decisione del Collegio  rinviando a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 stesura definitiva d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S e i 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pongono di destinare  parte della quota di flessibilità oraria alla realizzazione del progetto, studiandone modi e te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g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va in via defin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avorano in sinergia individuando i contenuti, i modi, gli strumenti  e i tempi  per il raggiungimento degl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organizzano il monitoraggio per la valutazione del prog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gli di Cla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niscono le risorse umane, progettano il percorso didattico, elaborano i contenuti, individuano le strategie, acquisiscono le prove per il monitoraggio e la valutazione d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a conclusione del progett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ori di dipartimento riferiscono al CTS e al Collegio Doc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risultati del monitoraggio e la ricaduta didat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IFLESSION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La costituzione del CTS ha permesso d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primere pareri sulla coerenza tra curricula ed esigenze del mondo produ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levare i bisogni professionali e formativi del territorio rimandandoli alla scuola sotto forma di sugge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muovere occasioni d’incontro e confronto fra docenti e rappresentanti del mondo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porre  agli OOCC  percorsi flessibili e innovativi che permettano di formare giovani pronti a recepire le istanze produttive del mondo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Oval 13"/>
          <p:cNvGrpSpPr/>
          <p:nvPr/>
        </p:nvGrpSpPr>
        <p:grpSpPr>
          <a:xfrm>
            <a:off x="2914560" y="974880"/>
            <a:ext cx="3400560" cy="1609560"/>
            <a:chOff x="2914560" y="974880"/>
            <a:chExt cx="3400560" cy="1609560"/>
          </a:xfrm>
        </p:grpSpPr>
        <p:pic>
          <p:nvPicPr>
            <p:cNvPr id="48" name="Oval 13" descr=""/>
            <p:cNvPicPr/>
            <p:nvPr/>
          </p:nvPicPr>
          <p:blipFill>
            <a:blip r:embed="rId1"/>
            <a:stretch/>
          </p:blipFill>
          <p:spPr>
            <a:xfrm>
              <a:off x="2914560" y="974880"/>
              <a:ext cx="340056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02000" y="1197000"/>
              <a:ext cx="21114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G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Oval 15"/>
          <p:cNvGrpSpPr/>
          <p:nvPr/>
        </p:nvGrpSpPr>
        <p:grpSpPr>
          <a:xfrm>
            <a:off x="469800" y="4297320"/>
            <a:ext cx="3436920" cy="1932120"/>
            <a:chOff x="469800" y="4297320"/>
            <a:chExt cx="3436920" cy="1932120"/>
          </a:xfrm>
        </p:grpSpPr>
        <p:pic>
          <p:nvPicPr>
            <p:cNvPr id="51" name="Oval 15" descr=""/>
            <p:cNvPicPr/>
            <p:nvPr/>
          </p:nvPicPr>
          <p:blipFill>
            <a:blip r:embed="rId2"/>
            <a:stretch/>
          </p:blipFill>
          <p:spPr>
            <a:xfrm>
              <a:off x="469800" y="4297320"/>
              <a:ext cx="343692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961920" y="4567320"/>
              <a:ext cx="213840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NICO-SCIENTIF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Oval 16"/>
          <p:cNvGrpSpPr/>
          <p:nvPr/>
        </p:nvGrpSpPr>
        <p:grpSpPr>
          <a:xfrm>
            <a:off x="5492880" y="4290840"/>
            <a:ext cx="3651120" cy="1884600"/>
            <a:chOff x="5492880" y="4290840"/>
            <a:chExt cx="3651120" cy="1884600"/>
          </a:xfrm>
        </p:grpSpPr>
        <p:pic>
          <p:nvPicPr>
            <p:cNvPr id="54" name="Oval 16" descr=""/>
            <p:cNvPicPr/>
            <p:nvPr/>
          </p:nvPicPr>
          <p:blipFill>
            <a:blip r:embed="rId3"/>
            <a:stretch/>
          </p:blipFill>
          <p:spPr>
            <a:xfrm>
              <a:off x="5492880" y="4290840"/>
              <a:ext cx="365112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13440" y="4552920"/>
              <a:ext cx="2290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ARTIM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Oval 21"/>
          <p:cNvGrpSpPr/>
          <p:nvPr/>
        </p:nvGrpSpPr>
        <p:grpSpPr>
          <a:xfrm>
            <a:off x="2771640" y="3284640"/>
            <a:ext cx="3384720" cy="1512720"/>
            <a:chOff x="2771640" y="3284640"/>
            <a:chExt cx="3384720" cy="1512720"/>
          </a:xfrm>
        </p:grpSpPr>
        <p:pic>
          <p:nvPicPr>
            <p:cNvPr id="57" name="Oval 21" descr=""/>
            <p:cNvPicPr/>
            <p:nvPr/>
          </p:nvPicPr>
          <p:blipFill>
            <a:blip r:embed="rId4"/>
            <a:stretch/>
          </p:blipFill>
          <p:spPr>
            <a:xfrm flipH="1">
              <a:off x="2771640" y="3284640"/>
              <a:ext cx="33847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7"/>
            <p:cNvSpPr/>
            <p:nvPr/>
          </p:nvSpPr>
          <p:spPr>
            <a:xfrm flipV="1" rot="10800000">
              <a:off x="3554640" y="3497760"/>
              <a:ext cx="211644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NSIG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I CLA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6"/>
          <p:cNvSpPr/>
          <p:nvPr/>
        </p:nvSpPr>
        <p:spPr>
          <a:xfrm>
            <a:off x="1403280" y="260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2124000" y="2811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SI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 rot="2823000">
            <a:off x="5478120" y="2843280"/>
            <a:ext cx="2592360" cy="502920"/>
          </a:xfrm>
          <a:prstGeom prst="leftRightArrow">
            <a:avLst>
              <a:gd name="adj1" fmla="val 50000"/>
              <a:gd name="adj2" fmla="val 10261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"/>
          <p:cNvSpPr/>
          <p:nvPr/>
        </p:nvSpPr>
        <p:spPr>
          <a:xfrm rot="19112400">
            <a:off x="955800" y="2852640"/>
            <a:ext cx="2616120" cy="503280"/>
          </a:xfrm>
          <a:prstGeom prst="leftRightArrow">
            <a:avLst>
              <a:gd name="adj1" fmla="val 50000"/>
              <a:gd name="adj2" fmla="val 1034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4284720" y="234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3780000" y="4941720"/>
            <a:ext cx="1584000" cy="503280"/>
          </a:xfrm>
          <a:prstGeom prst="leftRightArrow">
            <a:avLst>
              <a:gd name="adj1" fmla="val 50000"/>
              <a:gd name="adj2" fmla="val 5153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La costituzione dei Dipartimenti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ha permesso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25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sporre un piano organico di iniziative curriculari e integrative valide per l’intera comunità sco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ordare scelte comuni per un sapere disciplinare che abbia un maggiore valore form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re la comunicazione e la cooperazione  fra i docenti della stessa Area  attraverso un continuo scambio di idee e la condivisione di decisioni e par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are le logiche di un sapere settoriale a vantaggio di una metodologia di lavoro integr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rontare i risultati dell’azione didattica in relazione al processo di insegnamento/appr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re una banca dati che raccolga le esperienze più significative del lavoro svolto e dei supporti didattici necessari per la loro  realizz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uovere  la capillare diffusione di iniziative proposte da Enti esterni e di programmare attività di  formazione e aggiornamento comuni che valorizzino la professionalità dei doc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uovere saldi rapporti tra la Scuola e l’I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ritic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chio di delegare ai coordinatori di dipartimento, presenti anche nell’organico del CTS troppe competenze, funzioni e responsabi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chio di ingenerare interferenze  da parte del mondo produttivo che potrebbe sminuire, se non ben calibrato, il compito educativo formativo e culturale proprio dell’Istituzione Scolast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ità di prevedere nel conto finanziario dell’Istituzione Scolastica capitoli di spesa dedicati al funzionamento dei nuovi organis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grazi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per  l’attenz</a:t>
            </a: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Arial"/>
              </a:rPr>
              <a:t>D.S. Prof.ssa Ester Ri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FINITI I DIPARTIMENTI </a:t>
            </a:r>
            <a:br>
              <a:rPr sz="44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come nuove articolazioni del Collegio dei Docenti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Regolamento art.5, comma 3, punto c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07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suddivisi in Commissioni di lavoro e di ricercazione operano in sincronia con i suggerimenti e le proposte del 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val 4"/>
          <p:cNvGrpSpPr/>
          <p:nvPr/>
        </p:nvGrpSpPr>
        <p:grpSpPr>
          <a:xfrm>
            <a:off x="768240" y="3462480"/>
            <a:ext cx="2992680" cy="2719080"/>
            <a:chOff x="768240" y="3462480"/>
            <a:chExt cx="2992680" cy="2719080"/>
          </a:xfrm>
        </p:grpSpPr>
        <p:pic>
          <p:nvPicPr>
            <p:cNvPr id="68" name="Oval 4" descr=""/>
            <p:cNvPicPr/>
            <p:nvPr/>
          </p:nvPicPr>
          <p:blipFill>
            <a:blip r:embed="rId1"/>
            <a:stretch/>
          </p:blipFill>
          <p:spPr>
            <a:xfrm>
              <a:off x="768240" y="3462480"/>
              <a:ext cx="2992680" cy="27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249200" y="3881520"/>
              <a:ext cx="20368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IPLINA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Oval 5"/>
          <p:cNvGrpSpPr/>
          <p:nvPr/>
        </p:nvGrpSpPr>
        <p:grpSpPr>
          <a:xfrm>
            <a:off x="5230800" y="3395520"/>
            <a:ext cx="2998800" cy="2779920"/>
            <a:chOff x="5230800" y="3395520"/>
            <a:chExt cx="2998800" cy="2779920"/>
          </a:xfrm>
        </p:grpSpPr>
        <p:pic>
          <p:nvPicPr>
            <p:cNvPr id="71" name="Oval 5" descr=""/>
            <p:cNvPicPr/>
            <p:nvPr/>
          </p:nvPicPr>
          <p:blipFill>
            <a:blip r:embed="rId2"/>
            <a:stretch/>
          </p:blipFill>
          <p:spPr>
            <a:xfrm>
              <a:off x="5230800" y="3395520"/>
              <a:ext cx="299880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713560" y="3819600"/>
              <a:ext cx="2036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ETEN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SVERSA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FINITO IL COMITATO TECNICO SCIENTI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13000"/>
            <a:ext cx="79912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smo con funzione consultiva e proposi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 sviluppa alleanze formative con la comunità scolastica e con le esigenze del mondo del lavoro al fine 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ccia in giù 3"/>
          <p:cNvSpPr/>
          <p:nvPr/>
        </p:nvSpPr>
        <p:spPr>
          <a:xfrm rot="1357800">
            <a:off x="2103480" y="2935080"/>
            <a:ext cx="576360" cy="7603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ccia in giù 4"/>
          <p:cNvSpPr/>
          <p:nvPr/>
        </p:nvSpPr>
        <p:spPr>
          <a:xfrm rot="19503600">
            <a:off x="6264360" y="2873160"/>
            <a:ext cx="576000" cy="8078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arrotondato 5"/>
          <p:cNvSpPr/>
          <p:nvPr/>
        </p:nvSpPr>
        <p:spPr>
          <a:xfrm>
            <a:off x="900000" y="3789360"/>
            <a:ext cx="2808360" cy="2808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ire a favorire l’innovazione dell’organizz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arrotondato 6"/>
          <p:cNvSpPr/>
          <p:nvPr/>
        </p:nvSpPr>
        <p:spPr>
          <a:xfrm>
            <a:off x="5364000" y="3789360"/>
            <a:ext cx="2808360" cy="2808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ttimizzare l’incidenza dell’area d’indirizzo  suggerendo gli spazi di flessibilità e di auton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er non incorrer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1599840"/>
            <a:ext cx="8893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rapposi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usione nell’attribuzione di compiti e fun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ota proliferazione di inefficienti organismi di facci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è necessario fissare dei   Regolamenti ch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finiscano chiar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istituzione di ciascun nuovo org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na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colazione 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fun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odalità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olo a seguito di Regolamen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chiari e funzionali il C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potr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tangolo 1"/>
          <p:cNvSpPr/>
          <p:nvPr/>
        </p:nvSpPr>
        <p:spPr>
          <a:xfrm>
            <a:off x="826920" y="549360"/>
            <a:ext cx="7560000" cy="1439640"/>
          </a:xfrm>
          <a:prstGeom prst="rect">
            <a:avLst/>
          </a:prstGeom>
          <a:solidFill>
            <a:srgbClr val="00b0f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ollaborare c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ccia a destra 2"/>
          <p:cNvSpPr/>
          <p:nvPr/>
        </p:nvSpPr>
        <p:spPr>
          <a:xfrm rot="5400000">
            <a:off x="6248160" y="2689200"/>
            <a:ext cx="895320" cy="647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333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ccia a destra 4"/>
          <p:cNvSpPr/>
          <p:nvPr/>
        </p:nvSpPr>
        <p:spPr>
          <a:xfrm rot="5400000">
            <a:off x="2072160" y="2688480"/>
            <a:ext cx="893880" cy="64764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3333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arrotondato 6"/>
          <p:cNvSpPr/>
          <p:nvPr/>
        </p:nvSpPr>
        <p:spPr>
          <a:xfrm>
            <a:off x="4788000" y="3573360"/>
            <a:ext cx="3887640" cy="2880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agenzie del territo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 definire le azioni finalizzate all’inserimento nel mondo del lav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arrotondato 8"/>
          <p:cNvSpPr/>
          <p:nvPr/>
        </p:nvSpPr>
        <p:spPr>
          <a:xfrm>
            <a:off x="539640" y="3500280"/>
            <a:ext cx="3745080" cy="295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li organi collegiali attraverso il raccordo con i Diparti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individuare i bisogni formativi e contribuire  alla stesura del P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24:44Z</dcterms:created>
  <dc:creator>DOCENTE</dc:creator>
  <dc:description/>
  <dc:language>en-US</dc:language>
  <cp:lastModifiedBy>PC</cp:lastModifiedBy>
  <dcterms:modified xsi:type="dcterms:W3CDTF">2011-04-12T11:47:23Z</dcterms:modified>
  <cp:revision>71</cp:revision>
  <dc:subject/>
  <dc:title>Diapositiva 1</dc:title>
</cp:coreProperties>
</file>