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4" y="0"/>
                </a:moveTo>
                <a:arcTo wR="4" hR="4" stAng="16200000" swAng="-5400000"/>
                <a:lnTo>
                  <a:pt x="0" y="31580"/>
                </a:lnTo>
                <a:arcTo wR="4" hR="4" stAng="10800000" swAng="-5400000"/>
                <a:lnTo>
                  <a:pt x="21596" y="3158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080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89FC7-E1F6-43F5-8540-081EB1A4B6F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E5FAD-13C2-4E90-B72E-946D3E73EF2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49D7C-517E-4761-9171-0AC870A9295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CB033-93B9-48FF-B27B-C585F6EF67E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501D3-F64E-4C06-9E80-EDB2A704A03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C972E-ED8F-4421-B190-8FFCAEC517B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48D60-34DA-443A-94FD-5CE10A22355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AB3F2-67B4-40DA-BC6F-239278B496A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8912-582E-4259-88C8-F4AB2ED2A8D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065CD-735A-4C30-825D-82AC0213C1E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6B896-2A23-4406-8918-00358DA999E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AED8E-900E-4069-8758-9F08154CFA4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61690-A13C-4B9F-BA76-74137195488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C8972-4E4C-4013-B2F2-87060EA7DD4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CEE6F-FB25-441E-B105-8DD729817470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662E-BF5A-4486-9E69-3E9AC90B348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8AF-06B6-457E-B99B-B71D6A71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789-D242-42BF-8CF6-665FB30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05A-0EB1-4CB1-8670-DBDF23B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E2D-6A17-43A1-9AC5-81277AD6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DD1-BCDF-47E4-8D8B-78B2F3E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DEF-7DDA-469E-ADD0-215F4F7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657-A8CB-41C0-B371-B4E5A7E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048-9BBE-42D4-BFA9-9A7FE9AE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280800"/>
            <a:ext cx="90676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BF6-515A-41CA-BE3A-C244E4EF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DFF-DC8F-430E-A03E-01995C2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AF1-2482-44D9-A5D1-7EFCBA7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633-9406-40C3-A7E2-1FBCC7C0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5A75D4-A46E-43C9-968E-ECF63EC022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217080" cy="2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57900"/>
                </a:solidFill>
                <a:latin typeface="Bitstream Vera Sans"/>
              </a:rPr>
              <a:t>L’innovazione scientifica a supporto della didittica: </a:t>
            </a:r>
            <a:br>
              <a:rPr sz="2800"/>
            </a:br>
            <a:r>
              <a:rPr b="1" lang="it-IT" sz="2800" spc="-1" strike="noStrike">
                <a:solidFill>
                  <a:srgbClr val="f57900"/>
                </a:solidFill>
                <a:latin typeface="Bitstream Vera Sans"/>
              </a:rPr>
              <a:t>I Comitati Tecnico Scientifici e i Dipartimenti</a:t>
            </a:r>
            <a:br>
              <a:rPr sz="2800"/>
            </a:br>
            <a:endParaRPr b="1" lang="en-US" sz="28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COMITATO TECNICO SCIENTIF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nalisi di un c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TIS “A. ROSSI” - VICEN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rrento, 13-15 aprile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Il Modello Propost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9280" y="1499760"/>
            <a:ext cx="907092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mposi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mbri di diri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gente Scolastico (Presi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i docenti (designati dal Collegio Doc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mbri rappresen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ue rappresentanti di associazioni imprenditoriali (Confindustria e A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l Collegio dei Perirti Indust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i genitori presenti in Consiglio di 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ll’Univers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m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appresentanti dei docenti dovrebbero rappresentare i dipart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si capisce il ruolo del rappresentante dei gen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Il Modello Propost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280" y="1499760"/>
            <a:ext cx="907092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 funzione consultiva generale in ordine all’attività di programmazione ed all’innovazione didattica dell’istituto formulando pareri e proposte al Collegio Docenti ed al Consiglio di Istit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pone programmi, anche pluriennali, di ricerca e sviluppo didattico/formativo, in rapporto al sapere, al mondo del lavoro ed all’i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volge funzioni di coordinamento tra attività organizzate dalla scuola in collaborazione con le impr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ffettua monitoraggi e valutazioni sulle citate attiv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Punti di forza 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7280" y="1091880"/>
            <a:ext cx="9070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atto diretto con il mondo sociale e produ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giornamento dei contenuti e delle metodologie didatt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ordinamento delle attività scuola – azi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utazione degli esiti in usc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Punti di debolezza 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7280" y="1091880"/>
            <a:ext cx="9070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blematiche riscontrate nel mondo della scuola (“le aziende vengono a comandarci...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arsa attenzione al contesto socio economico est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obbligatorie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ssun potere decision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…</a:t>
            </a: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..a che punto siam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760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TS dell’ITIS “Rossi” ad oggi si è riunito solamente una volta ed ha iniziato una azione di studio e di revisione delle programmazioni delle discipline tecniche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ua costituzione è stata accolta con molto favore dalle associazioni imprenditoriali, mentre da parte della scuola l’accoglienza è stata piuttosto “tiepida”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zie per l'atten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112320"/>
            <a:ext cx="907128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La realtà territorial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079280"/>
            <a:ext cx="9070920" cy="5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vincia di Vicenza è caratterizzata da un elevato grado di industri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ziende sono per la gran parte di tipo manifatturiero, sviluppate principalmente nei settori della meccanica-meccatronica, del tessile e della metallur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livelli di disoccupazione, nonostante la crisi degli ultimi anni, sono a livelli molto ba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ziende sono di dimensioni medio-piccole con elevati livelli di tecnolo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lti imprenditori si sono formati al “ROSSI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Un po' di storia............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.......1878, nasce a Vicenza con Alessandro Rossi il primo Istituto Tecnico Industriale Ital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po dichiarato della nuova scuola, che sarà capostipite dell'istruzione tecnica italiana, è quello di formare tecnici preparati per coprire ruoli “intermedi” nella nascente industria manifattur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..........oggi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728720"/>
            <a:ext cx="90709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i fasti degli anni del secondo dopoguerra, durante i quali l'istruzione tecnica ha contribuito a formare i migliori talenti dell'industria italiana, sono seguiti anni di “appannamento” nei quali la scuola si è ripiegata su se stessa con evidente distacco dalla realtà es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lo negli ultimi anni si è riaperto il dialogo con il mondo sociale e produttivo del territ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La realtà interna dall'ITIS Rossi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ITIS Rossi attualmente conta 1100 studenti nei corsi diurni e 200 nei corsi s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presenti 5 specializzazioni (meccanica-meccatronica, informatica-telecomunicazioni, elettrotecnica-elettronica, chi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rca il 50% dei diplomati si iscrive all'università, mentre l'altra metà viene immediatamente assorbito dalle aziende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694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I punti di contatto con la realtà produttiva e social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03280" y="1728720"/>
            <a:ext cx="90709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n dalle origini il rapporto Rossi-Aziende è molto stretto e di assoluta collabo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gli anni si è cercato di rendere organici i vari contatti intrattenuti dai singoli docenti con varie azi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sono posti in atto numerose iniziative, a partire dai “vecchi” stage, all'ASL, alla realizzazione di progetti comu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alizzazione di percorsi post diploma con reti di scuole e aziende e proprio 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piè di pagina 2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503280" y="279360"/>
            <a:ext cx="9070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Da dove si è partiti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03280" y="1731960"/>
            <a:ext cx="929016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esigenza di un “organo di progettazione e di proposta” di tipo misto nasce dalla necessità di mantenere stretto il contatto tra quanto si insegna a scuola e le competenze richieste dal mondo industr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ritica rivolta dalle aziende alla scuola è quella di non riuscire a fornire agli allievi quanto necessario ad affrontare in modo “indolore” l'ingresso nel mondo del lavo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ritica rivolta dalla scuola al mondo del lavoro è quella di non privilegiare una educazione a 360° dei giovani, ma solo una formazione specif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All'inizio si era proposto un CTS...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76000" y="1692000"/>
            <a:ext cx="90709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0" algn="just">
              <a:lnSpc>
                <a:spcPct val="104000"/>
              </a:lnSpc>
              <a:buNone/>
              <a:tabLst>
                <a:tab algn="l" pos="0"/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consultivo obblig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parite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di proposta e supporto a dipartimenti e collegi docenti nella progettazione dei curricoli e dei percor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di valutazione  delle attività sv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ctr">
              <a:lnSpc>
                <a:spcPct val="104000"/>
              </a:lnSpc>
              <a:buNone/>
              <a:tabLst>
                <a:tab algn="l" pos="0"/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........poi invece il CTS è diventat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909440"/>
            <a:ext cx="9070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consultivo non obblig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non paritetico (quindi con presenza preponderante della scuo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mento: si è di fatto svuotato il CTS dell’importanza che avrebbe dovuto avere nel quadro generale della Riforma dell’Istruzione Te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0:44:53Z</dcterms:created>
  <dc:creator/>
  <dc:description/>
  <dc:language>en-US</dc:language>
  <cp:lastModifiedBy>pc</cp:lastModifiedBy>
  <dcterms:modified xsi:type="dcterms:W3CDTF">2011-04-12T06:29:56Z</dcterms:modified>
  <cp:revision>55</cp:revision>
  <dc:subject/>
  <dc:title>L’innovazione scientifica a supporto della didittica:  I Comitati Tecnico Scientifici e i Dipartimenti </dc:title>
</cp:coreProperties>
</file>